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11.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9B5E-6C19-4150-A577-4D7A56E662D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04840" y="696960"/>
            <a:ext cx="4648320" cy="3486240"/>
          </a:xfrm>
          <a:prstGeom prst="rect">
            <a:avLst/>
          </a:prstGeom>
          <a:ln w="0">
            <a:noFill/>
          </a:ln>
        </p:spPr>
      </p:sp>
      <p:sp>
        <p:nvSpPr>
          <p:cNvPr id="6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B097-F042-4429-A31C-D6052FFEC7D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04840" y="696960"/>
            <a:ext cx="4648320" cy="3486240"/>
          </a:xfrm>
          <a:prstGeom prst="rect">
            <a:avLst/>
          </a:prstGeom>
          <a:ln w="0">
            <a:noFill/>
          </a:ln>
        </p:spPr>
      </p:sp>
      <p:sp>
        <p:nvSpPr>
          <p:cNvPr id="6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562C-F570-48DC-899E-AF1E6F222B2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04840" y="696960"/>
            <a:ext cx="4648320" cy="3486240"/>
          </a:xfrm>
          <a:prstGeom prst="rect">
            <a:avLst/>
          </a:prstGeom>
          <a:ln w="0">
            <a:noFill/>
          </a:ln>
        </p:spPr>
      </p:sp>
      <p:sp>
        <p:nvSpPr>
          <p:cNvPr id="6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5B5F-B2B6-4F36-8DC9-538E858B0EF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04840" y="696960"/>
            <a:ext cx="4648320" cy="3486240"/>
          </a:xfrm>
          <a:prstGeom prst="rect">
            <a:avLst/>
          </a:prstGeom>
          <a:ln w="0">
            <a:noFill/>
          </a:ln>
        </p:spPr>
      </p:sp>
      <p:sp>
        <p:nvSpPr>
          <p:cNvPr id="6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7475-685A-4C86-9F5F-AF2395C66F7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04840" y="696960"/>
            <a:ext cx="4648320" cy="3486240"/>
          </a:xfrm>
          <a:prstGeom prst="rect">
            <a:avLst/>
          </a:prstGeom>
          <a:ln w="0">
            <a:noFill/>
          </a:ln>
        </p:spPr>
      </p:sp>
      <p:sp>
        <p:nvSpPr>
          <p:cNvPr id="6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94F3-DBB7-451F-83E3-0A9AFEA9296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04840" y="696960"/>
            <a:ext cx="4648320" cy="3486240"/>
          </a:xfrm>
          <a:prstGeom prst="rect">
            <a:avLst/>
          </a:prstGeom>
          <a:ln w="0">
            <a:noFill/>
          </a:ln>
        </p:spPr>
      </p:sp>
      <p:sp>
        <p:nvSpPr>
          <p:cNvPr id="7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1D94-163E-497D-B81E-4375622C0DF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04840" y="696960"/>
            <a:ext cx="4648320" cy="3486240"/>
          </a:xfrm>
          <a:prstGeom prst="rect">
            <a:avLst/>
          </a:prstGeom>
          <a:ln w="0">
            <a:noFill/>
          </a:ln>
        </p:spPr>
      </p:sp>
      <p:sp>
        <p:nvSpPr>
          <p:cNvPr id="6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F9F8-B3D5-4445-8CDE-8EE1DA8C057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04840" y="696960"/>
            <a:ext cx="4648320" cy="3486240"/>
          </a:xfrm>
          <a:prstGeom prst="rect">
            <a:avLst/>
          </a:prstGeom>
          <a:ln w="0">
            <a:noFill/>
          </a:ln>
        </p:spPr>
      </p:sp>
      <p:sp>
        <p:nvSpPr>
          <p:cNvPr id="6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9D6B-70D7-4057-B432-1EF19CB70CD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551D-7DE5-42F7-99A4-D67158F74A9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04840" y="696960"/>
            <a:ext cx="4648320" cy="3486240"/>
          </a:xfrm>
          <a:prstGeom prst="rect">
            <a:avLst/>
          </a:prstGeom>
          <a:ln w="0">
            <a:noFill/>
          </a:ln>
        </p:spPr>
      </p:sp>
      <p:sp>
        <p:nvSpPr>
          <p:cNvPr id="6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criticism as Americans we have been known to be </a:t>
            </a:r>
            <a:r>
              <a:rPr b="1" lang="en-US" sz="1200" spc="-1" strike="noStrike">
                <a:solidFill>
                  <a:srgbClr val="000000"/>
                </a:solidFill>
                <a:latin typeface="Calibri"/>
              </a:rPr>
              <a:t>ethnocentric</a:t>
            </a:r>
            <a:r>
              <a:rPr b="0" lang="en-US" sz="1200" spc="-1" strike="noStrike">
                <a:solidFill>
                  <a:srgbClr val="000000"/>
                </a:solidFill>
                <a:latin typeface="Calibri"/>
              </a:rPr>
              <a:t> in that we have a tendency to see our cultural values as the best and all others inferior (Campbell, 200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DBFC-E4C4-4662-837E-68F3DA7AC62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criticism and the relevance in Barthes comparison of the Hippie lifestyle and </a:t>
            </a:r>
            <a:r>
              <a:rPr b="1" lang="en-US" sz="1200" spc="-1" strike="noStrike">
                <a:solidFill>
                  <a:srgbClr val="000000"/>
                </a:solidFill>
                <a:latin typeface="Calibri"/>
              </a:rPr>
              <a:t>Bourgeois</a:t>
            </a:r>
            <a:r>
              <a:rPr b="0" lang="en-US" sz="1200" spc="-1" strike="noStrike">
                <a:solidFill>
                  <a:srgbClr val="000000"/>
                </a:solidFill>
                <a:latin typeface="Calibri"/>
              </a:rPr>
              <a:t> or petty-bourgeois world.   Calefato describes the attitudes of hippies as, “explicitly rejected the institution of fashion as a bourgeois system” (Calefato, 2008, p. 77).</a:t>
            </a:r>
            <a:endParaRPr b="0" lang="en-US" sz="1200" spc="-1" strike="noStrike">
              <a:solidFill>
                <a:srgbClr val="000000"/>
              </a:solidFill>
              <a:latin typeface="Calibri"/>
            </a:endParaRPr>
          </a:p>
        </p:txBody>
      </p:sp>
      <p:sp>
        <p:nvSpPr>
          <p:cNvPr id="6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730A-E7CF-4261-8067-17AED6F0CFE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as a diegesis [dahy-uh-jee-sis] or narrative criticism, Haruchi refers to the verses in Deuteronomy 29-30 as stories told  by a narrator who summarizes events in the plot and comments on the conversation and thoughts of Moses (Haraguchi, 2001,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730F-BB4D-457F-B3B5-992878DECF4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as a diegesis [dahy-uh-jee-sis] or narrative criticism, Haruchi refers to the verses in Deuteronomy 29-30 as stories told  by a narrator who summarizes events in the plot and comments on the conversation and thoughts of Moses (Haraguchi, 2001,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torical Situation: Deut. 29:1a explains the immediate situation which prompted Moses to make a speech.  Moses summoned all the Israelites and made a long speech before them.  He summoned them in Moab beyond the river Jordan to conclude a covenant between God and the people of Israel (Deut. 28:69; cf. 1.1).  After the Exodus incident (Exodus 12-15) Israel spent 40 years in the desert (Exodus 16-Numbers 36).  Israel was now completing her long journey and was on the point of entering the Promised Land (cf. Deut. 1:6-8, 34-39; 3:23-28; 4:5-40).  Moses' speech in Deuteronomy 29-30 reminds Israel of her history from Exodus up to the present time so that they could reflect on its meaning.  The Israelites were also required to enter into a new covenant with Yahweh in preparation for their new life in the Promised Land.  The speech is characterized by the recollection of their history and their future prospects" (Haraguchi, 2001, p. 25)</a:t>
            </a:r>
            <a:endParaRPr b="0" lang="en-US" sz="1200" spc="-1" strike="noStrike">
              <a:solidFill>
                <a:srgbClr val="000000"/>
              </a:solidFill>
              <a:latin typeface="Calibri"/>
            </a:endParaRPr>
          </a:p>
        </p:txBody>
      </p:sp>
      <p:sp>
        <p:nvSpPr>
          <p:cNvPr id="6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F32B-F613-4AF8-B3D1-7C9CCE7BF31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04840" y="696960"/>
            <a:ext cx="4648320" cy="3486240"/>
          </a:xfrm>
          <a:prstGeom prst="rect">
            <a:avLst/>
          </a:prstGeom>
          <a:ln w="0">
            <a:noFill/>
          </a:ln>
        </p:spPr>
      </p:sp>
      <p:sp>
        <p:nvSpPr>
          <p:cNvPr id="6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 How does the setting relate to the plot and characters? How is the particular setting created? Is the setting textually prominent – highly developed and detailed – or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racters (Persona)– Are some of the characters non-human or inanimate phenomena, described as thinking and speaking beings? In what actions do the characters engage? Are the characters round (possess a variety of traits, some of them conflicting or contradictory) or flat (one or a few dominant traits making the character predic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rrator – Is the narrative presented directly to the audience, or is it mediated by a narrator? What makes the narrator intrusive or not? What kind of person is the narrator (examine his or her eth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nts – What are the major and minor events? How are the events presented? Are the events active (expressing action) or stative (expressing a state or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mporal relations – Do events occur in a brief period of time or over many years? What is the relationship between the natural order of the events as they occurred and the order of their presentation in the telling of a narrative? Is the story in past or present t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al relations – What cause-and-effect relationships are established in the narrative? Are events caused largely by human action, accident, or forces of nature? In how much detail are the causes and effects descri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udience – Is the audience a participant in the events recounted? What can be inferred about the audience’s attitudes, knowledge, or situation from the narrative? What seems to be the narrator’s evaluation of the audience’s knowledge, personality, and 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me – What is the major theme (general idea illustrated by the narrative) of the narrative? How is the theme articulated? How obvious and clear is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Traditional narrative criticism focuses primarily on the narrative and does not take the socioeconomic and political background into consideration; however, it is not opposed to New-Historicism theory. In addition, it does not take the narrator's motivations into consideration as it focuses on the narrative to generate the analysis. Also, as the critic looks at the overall unity of the narrative, the theory is not conducive to deconstruction techniques (19-2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104D-6B2D-40FB-B9EF-DCEB3CA9180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70C45-C6D7-4C83-990C-B997E0B8C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FEF4A-F61E-41E8-88E1-88DD96AAE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8FB1434-C6B0-4E94-9581-4D8D2C2509E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EDBF312-8404-44D9-84EA-3E5314F28F9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E192C19-2CA3-4562-8F6B-01681FB3EBD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B000829-66B7-4387-AF6A-AC35AC10C1D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0FDFD4A-39F3-4C0D-988F-B0BCBA39EB7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AE3BD86-62FA-4E8F-B2FF-B801976C34E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474AC19-FEE0-4493-B2F4-1156E3390E9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5A60165-8C47-467B-9938-904722BEF61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6E0D326-9CA1-4520-A74C-7CF0E146783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F2A73C1-E3FE-44C6-AEF2-65923F761D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07EBD-B681-40D9-935A-E583FE429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3F5DB01-260E-4A38-BD23-F890FAA33F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2FE2545-D72B-464D-BC6B-6F81A9A989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3001CCF-40EB-47D3-997A-01684DDC79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06CCECA-4DA8-454A-83C8-D5F975CDEF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DC0CDB7-9BA4-4EEF-AC9F-F9A4690F02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C126629-24F2-4125-A4B2-88E83EBEE6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EB429EE-51BA-4468-9BE1-DF10A1EDF3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74F81DF-27D5-4D63-BAB3-1318D1B86C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96582BF-1C26-47E6-81C1-74F9CFA5C4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F6D5A36-2310-4264-B11C-0454BDDF08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DBC05-9FF1-4770-845B-54138E517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8E1F764-0A8F-4BAE-98FE-3697DB751A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B6FF83-52EF-43F6-88E7-C7BBB1C81B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5CF91B-F868-4036-8855-DBB01B9681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B78BB3-C603-423F-A30C-233F9C57D3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8F90C4-83C8-4C47-89E3-D1E965804C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3E5700-DD0F-4919-9BEF-ABDF91FEFD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B419EF-AF39-4290-B218-F10A1FD538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3AB0D8-72AC-4409-B7E8-287201C9C8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FB6158-BD39-4FE9-AFD9-68BB2509FA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E7A41A-FD87-4896-8FC1-DFF9CD4715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4A636-F4A6-40BC-B489-57EDFD4DE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795B14-C44E-47D6-AF57-F09B8DB2B4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00AADFC-0509-40FC-8339-079F2D6CD34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45088A-9BFA-4AB5-903D-ACEEC4E97C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A10E180-19C1-4057-A905-0638DC6FE8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F547D7C-7687-4224-8969-A8089DD736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0469169-E29D-4A41-AA05-59FD3D4DD0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E3D46DD-ED3E-4F17-9B53-CFD34EB5A7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A17BFCF-ADE2-45F7-BFBA-603604A3D4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775580F-FB7E-40FE-8802-0973FEBA63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EADF31E-5EC8-4503-A79A-1ABEFD4175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887E1-46CC-4021-B61D-A2990CAB4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2769ABC-C165-413A-AAD1-F74BDA638C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077DD3D-BD1B-44D0-AE15-B079A6710C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7A32819-83FF-4EEC-AB82-05C98A0547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BE31087-810B-41D7-BE5F-B01745EEAB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E90032D-C73D-4583-8AEE-18010AC40A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A3FA5-7E58-4147-BF60-AB6BD48F2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BADAB-655A-4536-A81A-041D3A713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CC124-ED84-4D48-A470-C6B84C113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1267B-3721-43F3-8377-71430E3BC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CCA7A-412D-4489-89A3-803241812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275D9-AB32-462E-894D-0BDCBF104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1E874-7533-48E1-8F92-8362165AC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C01BD-D189-4809-881D-7748CD094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F9CCD-B604-4DC6-84FA-2256173D1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CC7B8D-0C17-401B-93E3-93EA2FB07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9E701-F425-4F3C-A634-6E8D517A3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2A54BD-2930-4C00-88BE-9476E5BD35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7CCA0-B6AD-49A6-B6E0-A80849E8D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5D45DF-A09E-4683-94EF-6E391D6889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FE9D4-FBD3-4724-950D-D12871FD4D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EB12A4-CC54-428B-BA7F-85A17F2D29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B7236-1ECF-4596-8E6A-2BADB0710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D2C9F6-0725-4CDA-9234-C6A1580BE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39ED6-0672-4990-B8BC-17B300D9FB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B0879-30AA-4136-A7EA-DE5FFB0BF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3B07F-BC87-457B-A47B-CA29BD6B6C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2A0C10-862E-426C-AB72-FD9D05ADE6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32A3A3-5331-4B58-A3B6-C3D92D4971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F54FCF-9E79-4B6D-9C1D-01D256CC68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35FD343-DE4D-46D6-94E0-C9741C18772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311E739-0295-4D5B-B857-51642B172E4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5292D6E-C663-410B-A371-FB841CAF733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F13DD-E521-4C69-B1C9-034CB739C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30C24EC-D804-40C6-82D7-828E4A33CBC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049775D-1769-4E3B-AB87-E8571B847EF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75B3F59-7EF6-4EBB-95D9-5769F8B594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A940FA7-3D54-4F6D-8FE9-BAD1F05E851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506C42B-14EA-4B38-A815-3D4EDF0C3BE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A2261A5-B879-48C7-B38D-351051F176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F9EF5ED-6A1C-47A5-8034-F76DE75B4B4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4F96DE5-E2FE-4715-BEB4-A48620DF123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4025D6F-345F-46A9-B1FA-3BE4000761F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904B4F-75CA-4FFE-8C86-ACEBF845C1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BFE59-1022-490E-8FB8-563394655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BE0351-F453-476F-8C08-BE77694574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47BCC0-95A6-4CB3-B80C-E670600F3A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F8CAFD-EAF3-4757-BE35-2CA9FAF3E3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103D90-0F1B-4549-9EAA-335DC05AAF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C4F22-ED63-4D1C-B1FD-A2CB298FEB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56EF0-FBA9-4624-AD63-B5C9C4021E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55C7D0-3099-427A-8852-0190D1E9B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8892AA-F288-4A37-BC0E-03B53A082E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2E41FC-C7B6-4F41-AF13-56E197728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F45CB8-BEC6-4914-8D34-429AC0CB86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1854F-A49D-4734-BBAC-9F49D1A2A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7085E8-DE41-4678-BDB6-80F2F11DB7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CE5990-8C04-456D-ACAD-F115C2BCA6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05367B-CE56-4913-A34B-E2196FF45F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78555C-8DC3-4EA2-9F4F-DB15D94870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2650D4-E594-43E7-A428-0C0257201F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351068-221C-4E4A-9C0E-5DCA8FBBF2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9BA45E-6261-4A42-B810-87C8BF78AD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5F9F6E-75FF-4950-8739-4083036EF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7E6EC0-3FD9-4385-BF78-49D19B2C9F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C6328-63CB-4A94-894C-D0DB99F1E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DB456-D321-48CC-9C57-03FDBC14E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D22DF2-22C6-4D51-8752-3A32B72B4F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29A33B-3896-49F2-9766-BFD93F2E22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5D619E-953D-4689-987B-8D079A9FEB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7F07EF-FFE1-4CAF-AAA2-30F225C549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E501C8-84C5-49D1-98C6-1E9813DD89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B4C079-51B3-487F-A822-6254075A49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A6B2C4-E988-4E1C-959A-042F314144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8DF20F-3B86-42BB-B0DD-139319BDE3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E8C649-E3F1-4C1A-BF23-876A2B5043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53C5C8-9103-46E9-B009-A3FDA5A953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6CD55-D408-456B-8C38-442D7DBCC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4A1F1F-72A5-41F2-913A-E023E2C5BA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B27076-2FB1-4069-9250-35BD1DED30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89E740-A809-4E12-9EF8-5F5E88D371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F9B8BB-6F04-411A-A3B9-C7B70ECBD8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7E9C4B-0400-462B-AE28-FB6A162AEF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3750D6-EF2C-41C4-8A3D-7106635E18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A31229-1E00-4E3A-AB37-0C1F0AD1A1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23867C-25C9-4D94-84C0-9F3BCD7256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0B7A31-4DDB-4B4D-B249-D81B14BCC5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8555C0-D215-4901-81B5-2D8FA60DB5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B248F-AEDF-4F5B-881C-3B44DD5C3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83C33B-4733-4D0D-82E8-326C579343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36B72-363A-40DC-8193-325A9856FC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7F356B-A7A1-444F-ADC7-92296D5784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CCA933-D4D3-46A0-8476-A951332BC6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8009E8-1494-4899-8D73-DE52E40766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BFD40F-AE32-42F0-B6D1-D3543F6708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72510B-D611-4486-B48B-A0F81D91E4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C151748-CD83-4699-AB08-E1C0C5315DA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2E799AC-0409-4737-B369-3E7BF17AF27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6FED25C-BBFC-402C-A4FC-72D42893496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F7CE-883E-48BA-A65F-3D45D0D4B5A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1C8BD-1448-4765-83E5-5C956CDC048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90DE-F608-4BB8-9DED-7B4217C90C8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2ABD-D38C-4E6E-BF30-8552C73C6A6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C11C-B30F-43F5-9273-87D009D2AF5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16F7-126C-487C-B137-20294730AD6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B836-8B83-457E-8EB6-4F03C43CFF5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EDCE-2F58-44C3-9BC5-BBF6337B835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92F2-024A-40D3-9E3F-B66AED20FBB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CFAA-D634-4A54-8425-80AE74C05E2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11D7-273C-443B-B188-E73868310033}"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9CAC-D874-4F49-A697-A6D1EDF2BB3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BY</a:t>
            </a:r>
            <a:endParaRPr b="0" lang="en-US" sz="2000" spc="-1" strike="noStrike">
              <a:solidFill>
                <a:srgbClr val="000000"/>
              </a:solidFill>
              <a:latin typeface="Georgia"/>
            </a:endParaRPr>
          </a:p>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GLORIA WHALEN</a:t>
            </a:r>
            <a:endParaRPr b="0" lang="en-US" sz="20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eaching a Critical Method</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5" descr="C:\Users\figlecuy\AppData\Local\Microsoft\Windows\Temporary Internet Files\Content.IE5\V1NQP90U\MC900441763[1].png"/>
          <p:cNvPicPr/>
          <p:nvPr/>
        </p:nvPicPr>
        <p:blipFill>
          <a:blip r:embed="rId1"/>
          <a:stretch/>
        </p:blipFill>
        <p:spPr>
          <a:xfrm>
            <a:off x="-19080" y="1401840"/>
            <a:ext cx="2805120" cy="2805120"/>
          </a:xfrm>
          <a:prstGeom prst="rect">
            <a:avLst/>
          </a:prstGeom>
          <a:ln w="0">
            <a:noFill/>
          </a:ln>
        </p:spPr>
      </p:pic>
      <p:sp>
        <p:nvSpPr>
          <p:cNvPr id="6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0" name="Picture 4" descr="C:\Users\figlecuy\AppData\Local\Microsoft\Windows\Temporary Internet Files\Content.IE5\R78VLZXP\MC900388848[1].wmf"/>
          <p:cNvPicPr/>
          <p:nvPr/>
        </p:nvPicPr>
        <p:blipFill>
          <a:blip r:embed="rId2"/>
          <a:stretch/>
        </p:blipFill>
        <p:spPr>
          <a:xfrm>
            <a:off x="2362320" y="3276720"/>
            <a:ext cx="1892160" cy="3352680"/>
          </a:xfrm>
          <a:prstGeom prst="rect">
            <a:avLst/>
          </a:prstGeom>
          <a:ln w="0">
            <a:noFill/>
          </a:ln>
        </p:spPr>
      </p:pic>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and Narrative Criticism</a:t>
            </a:r>
            <a:endParaRPr b="0" lang="en-US" sz="2700" spc="-1" strike="noStrike">
              <a:solidFill>
                <a:srgbClr val="000000"/>
              </a:solidFill>
              <a:latin typeface="Georgia"/>
            </a:endParaRPr>
          </a:p>
        </p:txBody>
      </p:sp>
      <p:pic>
        <p:nvPicPr>
          <p:cNvPr id="642" name="Picture 1" descr=""/>
          <p:cNvPicPr/>
          <p:nvPr/>
        </p:nvPicPr>
        <p:blipFill>
          <a:blip r:embed="rId3"/>
          <a:stretch/>
        </p:blipFill>
        <p:spPr>
          <a:xfrm rot="615000">
            <a:off x="6067440" y="2147760"/>
            <a:ext cx="2455920" cy="3643560"/>
          </a:xfrm>
          <a:prstGeom prst="rect">
            <a:avLst/>
          </a:prstGeom>
          <a:ln w="0">
            <a:noFill/>
          </a:ln>
        </p:spPr>
      </p:pic>
      <p:pic>
        <p:nvPicPr>
          <p:cNvPr id="643" name="Picture 2" descr=""/>
          <p:cNvPicPr/>
          <p:nvPr/>
        </p:nvPicPr>
        <p:blipFill>
          <a:blip r:embed="rId4"/>
          <a:srcRect l="10427" t="6573" r="54358" b="55213"/>
          <a:stretch/>
        </p:blipFill>
        <p:spPr>
          <a:xfrm rot="21005400">
            <a:off x="4254480" y="2209320"/>
            <a:ext cx="2489400" cy="358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Perspectiv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6"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47"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8"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9" name="TextBox 2"/>
          <p:cNvSpPr/>
          <p:nvPr/>
        </p:nvSpPr>
        <p:spPr>
          <a:xfrm>
            <a:off x="4952880" y="2781360"/>
            <a:ext cx="38782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race, class, and gende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omen</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ack and white</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ower class and middle/upp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arrative Viewpoi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52"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53"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4"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5" name="TextBox 2"/>
          <p:cNvSpPr/>
          <p:nvPr/>
        </p:nvSpPr>
        <p:spPr>
          <a:xfrm>
            <a:off x="5029200" y="28954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events</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00’s Jefferson VS. Bur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0’s Racial Segregati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1371600" y="2819160"/>
            <a:ext cx="6400800" cy="327636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QUESTIONS TO PONDER:</a:t>
            </a:r>
            <a:endParaRPr b="0" lang="en-US" sz="18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O CAN YOU MOST RELATE WITH</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KEEPER</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WIFE</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09480" y="2819160"/>
            <a:ext cx="7925040" cy="327636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Y OBSERVING 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ND</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ONE MAY IDENTIF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endParaRPr b="0" lang="en-US" sz="16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AT THE RHETOR IS ASKING YOU TO ACT ON </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6"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a:t>
            </a:r>
            <a:endParaRPr b="0" lang="en-US" sz="4200" spc="-1" strike="noStrike">
              <a:solidFill>
                <a:srgbClr val="7b9899"/>
              </a:solidFill>
              <a:latin typeface="Georgia"/>
            </a:endParaRPr>
          </a:p>
        </p:txBody>
      </p:sp>
      <p:pic>
        <p:nvPicPr>
          <p:cNvPr id="617" name="Picture 4" descr="C:\Users\figlecuy\AppData\Local\Microsoft\Windows\Temporary Internet Files\Content.IE5\54J5ZAGH\MP900402892[1].jpg"/>
          <p:cNvPicPr/>
          <p:nvPr/>
        </p:nvPicPr>
        <p:blipFill>
          <a:blip r:embed="rId1"/>
          <a:stretch/>
        </p:blipFill>
        <p:spPr>
          <a:xfrm>
            <a:off x="6477120" y="476280"/>
            <a:ext cx="2361960" cy="177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ubTitle"/>
          </p:nvPr>
        </p:nvSpPr>
        <p:spPr>
          <a:xfrm>
            <a:off x="1371600" y="3276720"/>
            <a:ext cx="6400800" cy="1752480"/>
          </a:xfrm>
          <a:prstGeom prst="rect">
            <a:avLst/>
          </a:prstGeom>
          <a:noFill/>
          <a:ln w="0">
            <a:noFill/>
          </a:ln>
        </p:spPr>
        <p:txBody>
          <a:bodyPr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RISTOTELIAN METHOD AS SPEECH USED</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r>
              <a:rPr b="1" lang="en-US" sz="1600" spc="-1" strike="noStrike">
                <a:solidFill>
                  <a:srgbClr val="646b86"/>
                </a:solidFill>
                <a:latin typeface="Georgia"/>
              </a:rPr>
              <a:t>TO CONVINCE BY ALL MEANS POSSIBLE </a:t>
            </a:r>
            <a:endParaRPr b="0" lang="en-US" sz="1600" spc="-1" strike="noStrike">
              <a:solidFill>
                <a:srgbClr val="000000"/>
              </a:solidFill>
              <a:latin typeface="Georgia"/>
            </a:endParaRPr>
          </a:p>
        </p:txBody>
      </p:sp>
      <p:sp>
        <p:nvSpPr>
          <p:cNvPr id="61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pic>
        <p:nvPicPr>
          <p:cNvPr id="621" name="Diagram 1" descr=""/>
          <p:cNvPicPr/>
          <p:nvPr/>
        </p:nvPicPr>
        <p:blipFill>
          <a:blip r:embed="rId1"/>
          <a:stretch/>
        </p:blipFill>
        <p:spPr>
          <a:xfrm>
            <a:off x="1968480" y="2816280"/>
            <a:ext cx="5133960" cy="3213000"/>
          </a:xfrm>
          <a:prstGeom prst="rect">
            <a:avLst/>
          </a:prstGeom>
          <a:ln w="0">
            <a:noFill/>
          </a:ln>
        </p:spPr>
      </p:pic>
      <p:sp>
        <p:nvSpPr>
          <p:cNvPr id="622" name="PlaceHolder 2"/>
          <p:cNvSpPr>
            <a:spLocks noGrp="1"/>
          </p:cNvSpPr>
          <p:nvPr>
            <p:ph type="subTitle"/>
          </p:nvPr>
        </p:nvSpPr>
        <p:spPr>
          <a:xfrm>
            <a:off x="1371600" y="2689560"/>
            <a:ext cx="6400800" cy="24372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ubTitle"/>
          </p:nvPr>
        </p:nvSpPr>
        <p:spPr>
          <a:xfrm>
            <a:off x="762120" y="2819160"/>
            <a:ext cx="7772400" cy="29718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ETIC AND EMIC POINT OF VIEW</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LARGER CULTURAL ATTITUDES OF RACE, CLASS, GENDER, SEXUALITY AND THE QUESTIONS CONCERNING POWER IN SOCIAL STRUCTUR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5" name="Picture 2" descr="C:\Users\figlecuy\AppData\Local\Microsoft\Windows\Temporary Internet Files\Content.IE5\54J5ZAGH\MP900402892[1].jpg"/>
          <p:cNvPicPr/>
          <p:nvPr/>
        </p:nvPicPr>
        <p:blipFill>
          <a:blip r:embed="rId1"/>
          <a:stretch/>
        </p:blipFill>
        <p:spPr>
          <a:xfrm>
            <a:off x="6858000" y="438120"/>
            <a:ext cx="2082960" cy="15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ubTitle"/>
          </p:nvPr>
        </p:nvSpPr>
        <p:spPr>
          <a:xfrm>
            <a:off x="762120" y="2819160"/>
            <a:ext cx="7772400" cy="297180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8" name="Picture 4" descr="C:\Users\figlecuy\AppData\Local\Microsoft\Windows\Temporary Internet Files\Content.IE5\GGJH5GDE\MC900360778[1].wmf"/>
          <p:cNvPicPr/>
          <p:nvPr/>
        </p:nvPicPr>
        <p:blipFill>
          <a:blip r:embed="rId1"/>
          <a:stretch/>
        </p:blipFill>
        <p:spPr>
          <a:xfrm>
            <a:off x="6248520" y="1828800"/>
            <a:ext cx="2014560" cy="5445000"/>
          </a:xfrm>
          <a:prstGeom prst="rect">
            <a:avLst/>
          </a:prstGeom>
          <a:ln w="0">
            <a:noFill/>
          </a:ln>
        </p:spPr>
      </p:pic>
      <p:pic>
        <p:nvPicPr>
          <p:cNvPr id="629" name="Picture 5" descr="C:\Users\figlecuy\AppData\Local\Microsoft\Windows\Temporary Internet Files\Content.IE5\HRUCIJ25\MC910217101[1].wmf"/>
          <p:cNvPicPr/>
          <p:nvPr/>
        </p:nvPicPr>
        <p:blipFill>
          <a:blip r:embed="rId2"/>
          <a:stretch/>
        </p:blipFill>
        <p:spPr>
          <a:xfrm>
            <a:off x="914400" y="3429000"/>
            <a:ext cx="3376440" cy="305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BIBLE</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DIEGESIS </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1"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42640" y="1546200"/>
            <a:ext cx="850572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ditional Narrative Criticism</a:t>
            </a:r>
            <a:endParaRPr b="0" lang="en-US" sz="2700" spc="-1" strike="noStrike">
              <a:solidFill>
                <a:srgbClr val="000000"/>
              </a:solidFill>
              <a:latin typeface="Georgia"/>
            </a:endParaRPr>
          </a:p>
        </p:txBody>
      </p:sp>
      <p:pic>
        <p:nvPicPr>
          <p:cNvPr id="633" name="Picture 7" descr="C:\Users\figlecuy\AppData\Local\Microsoft\Windows\Temporary Internet Files\Content.IE5\1F7Y6QTR\MP900438755[1].jpg"/>
          <p:cNvPicPr/>
          <p:nvPr/>
        </p:nvPicPr>
        <p:blipFill>
          <a:blip r:embed="rId1"/>
          <a:stretch/>
        </p:blipFill>
        <p:spPr>
          <a:xfrm>
            <a:off x="1066680" y="2438280"/>
            <a:ext cx="3117960" cy="2341800"/>
          </a:xfrm>
          <a:prstGeom prst="rect">
            <a:avLst/>
          </a:prstGeom>
          <a:ln w="0">
            <a:noFill/>
          </a:ln>
        </p:spPr>
      </p:pic>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5" name="Picture 3" descr=""/>
          <p:cNvPicPr/>
          <p:nvPr/>
        </p:nvPicPr>
        <p:blipFill>
          <a:blip r:embed="rId2"/>
          <a:stretch/>
        </p:blipFill>
        <p:spPr>
          <a:xfrm>
            <a:off x="5638680" y="1981080"/>
            <a:ext cx="2635200" cy="399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STRUCTURE OF STORIES THAT INCLUDES ELEMENTS PROTAGONIST, ANTAGONIST, SETTING, EVENTS, AUDIENCE </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21:35:07Z</dcterms:created>
  <dc:creator>Gloria</dc:creator>
  <dc:description/>
  <dc:language>en-US</dc:language>
  <cp:lastModifiedBy>Mark Stoner</cp:lastModifiedBy>
  <cp:lastPrinted>2014-03-27T00:42:14Z</cp:lastPrinted>
  <dcterms:modified xsi:type="dcterms:W3CDTF">2014-04-02T01:53:40Z</dcterms:modified>
  <cp:revision>35</cp:revision>
  <dc:subject/>
  <dc:title>Critical Method</dc:title>
</cp:coreProperties>
</file>