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B159-22AF-4BB2-8198-92986468D35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4840" y="696960"/>
            <a:ext cx="4648320" cy="3486240"/>
          </a:xfrm>
          <a:prstGeom prst="rect">
            <a:avLst/>
          </a:prstGeom>
          <a:ln w="0">
            <a:noFill/>
          </a:ln>
        </p:spPr>
      </p:sp>
      <p:sp>
        <p:nvSpPr>
          <p:cNvPr id="6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D09C-4263-458D-AF9E-D2FFA0A8F32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64F8-F378-4881-B170-6B48AD55278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A5A2-8A49-4946-BD52-C9328B85FC0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C08C-6163-4362-9493-B6640F517F1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2401-F1DC-4AD9-8B82-3A04A20EC56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D465-6A32-4287-949E-2813FE7A06D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4840" y="696960"/>
            <a:ext cx="4648320" cy="3486240"/>
          </a:xfrm>
          <a:prstGeom prst="rect">
            <a:avLst/>
          </a:prstGeom>
          <a:ln w="0">
            <a:noFill/>
          </a:ln>
        </p:spPr>
      </p:sp>
      <p:sp>
        <p:nvSpPr>
          <p:cNvPr id="6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B5AF-60A9-4DA5-B1B3-1206094F5EE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4840" y="696960"/>
            <a:ext cx="4648320" cy="3486240"/>
          </a:xfrm>
          <a:prstGeom prst="rect">
            <a:avLst/>
          </a:prstGeom>
          <a:ln w="0">
            <a:noFill/>
          </a:ln>
        </p:spPr>
      </p:sp>
      <p:sp>
        <p:nvSpPr>
          <p:cNvPr id="6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9E51-3521-41DD-AB80-A9C0B3A7249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2866-8753-4C84-A596-A391CE34305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04840" y="696960"/>
            <a:ext cx="4648320" cy="3486240"/>
          </a:xfrm>
          <a:prstGeom prst="rect">
            <a:avLst/>
          </a:prstGeom>
          <a:ln w="0">
            <a:noFill/>
          </a:ln>
        </p:spPr>
      </p:sp>
      <p:sp>
        <p:nvSpPr>
          <p:cNvPr id="6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s Americans we have been known to be </a:t>
            </a:r>
            <a:r>
              <a:rPr b="1" lang="en-US" sz="1200" spc="-1" strike="noStrike">
                <a:solidFill>
                  <a:srgbClr val="000000"/>
                </a:solidFill>
                <a:latin typeface="Calibri"/>
              </a:rPr>
              <a:t>ethnocentric</a:t>
            </a:r>
            <a:r>
              <a:rPr b="0" lang="en-US" sz="1200" spc="-1" strike="noStrike">
                <a:solidFill>
                  <a:srgbClr val="000000"/>
                </a:solidFill>
                <a:latin typeface="Calibri"/>
              </a:rPr>
              <a:t> in that we have a tendency to see our cultural values as the best and all others inferior (Campbell, 20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900C-3084-486E-8F0F-06EAD8C1321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nd the relevance in Barthes comparison of the Hippie lifestyle and </a:t>
            </a:r>
            <a:r>
              <a:rPr b="1" lang="en-US" sz="1200" spc="-1" strike="noStrike">
                <a:solidFill>
                  <a:srgbClr val="000000"/>
                </a:solidFill>
                <a:latin typeface="Calibri"/>
              </a:rPr>
              <a:t>Bourgeois</a:t>
            </a:r>
            <a:r>
              <a:rPr b="0" lang="en-US" sz="1200" spc="-1" strike="noStrike">
                <a:solidFill>
                  <a:srgbClr val="000000"/>
                </a:solidFill>
                <a:latin typeface="Calibri"/>
              </a:rPr>
              <a:t> or petty-bourgeois world.   Calefato describes the attitudes of hippies as, “explicitly rejected the institution of fashion as a bourgeois system” (Calefato, 2008, p. 77).</a:t>
            </a:r>
            <a:endParaRPr b="0" lang="en-US" sz="1200" spc="-1" strike="noStrike">
              <a:solidFill>
                <a:srgbClr val="000000"/>
              </a:solidFill>
              <a:latin typeface="Calibri"/>
            </a:endParaRPr>
          </a:p>
        </p:txBody>
      </p:sp>
      <p:sp>
        <p:nvSpPr>
          <p:cNvPr id="6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47DD-464C-4C31-A730-955CF16AD78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85AB-170B-474C-BDDE-673B7F9DD54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torical Situation: Deut. 29:1a explains the immediate situation which prompted Moses to make a speech.  Moses summoned all the Israelites and made a long speech before them.  He summoned them in Moab beyond the river Jordan to conclude a covenant between God and the people of Israel (Deut. 28:69; cf. 1.1).  After the Exodus incident (Exodus 12-15) Israel spent 40 years in the desert (Exodus 16-Numbers 36).  Israel was now completing her long journey and was on the point of entering the Promised Land (cf. Deut. 1:6-8, 34-39; 3:23-28; 4:5-40).  Moses' speech in Deuteronomy 29-30 reminds Israel of her history from Exodus up to the present time so that they could reflect on its meaning.  The Israelites were also required to enter into a new covenant with Yahweh in preparation for their new life in the Promised Land.  The speech is characterized by the recollection of their history and their future prospects" (Haraguchi, 2001, p. 25)</a:t>
            </a: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F672-4BE3-4023-A4E1-3D5C5D8FF99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04840" y="696960"/>
            <a:ext cx="4648320" cy="3486240"/>
          </a:xfrm>
          <a:prstGeom prst="rect">
            <a:avLst/>
          </a:prstGeom>
          <a:ln w="0">
            <a:noFill/>
          </a:ln>
        </p:spPr>
      </p:sp>
      <p:sp>
        <p:nvSpPr>
          <p:cNvPr id="6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C029-5B5F-4B0D-B10F-48122D1FA77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F8339-BADB-46C0-8DD8-A343DE401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44C4-598F-4C3D-99FA-826D2D216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D1274F-5113-4231-8A8E-0033F6A9CF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1B4C29A-FE20-4F8A-86A6-4CEA9B6AD63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D90E4F9-8E93-49CF-90EB-B743C0FB59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91919DC-81C0-465E-B422-A833FBE7CA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7A30A8D-9B7C-4E09-85EA-3F09762BC0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E058EF1-E037-4455-80C0-BD3BAF4508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95E678E-A651-4AE7-9DF4-CE6ED90DA8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25F3A73-4AB6-48C1-8C80-0487C1CCCE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E601F27-8C1D-47BC-B0B4-0D46D774425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A3DD3A5-C6BA-41AA-917D-05084925E3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536C8-3671-4F05-A103-875DB36D5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BE2F600-B841-4D38-A6CA-279C769DB0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C3069CE-F9C6-40C2-8DC8-FCD39A4C8E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1048BDF-BEBF-4E62-8554-FCD3E1D02C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AC14F78-9871-4997-B93B-7266B5ED4F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57A5161-CEC2-4F6A-9FE8-39C1608B24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6D6988-B73E-4DDF-85B6-512DF341C9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FD8835-2033-4B3A-88AD-C6A72095E2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B8A75B0-D94B-4B75-BFB5-A037621B83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7553C01-1FBA-4FBD-B2BB-6B4543D985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9B819D7-6185-4EC2-89E4-8A15883EF8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46A9E-49AE-4CC7-8A26-BE9E9CC3E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89114B7-604A-4999-9998-0112AB2008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811561-BE28-4158-BD1F-0D1767F768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4D4B94-2055-4CB4-964E-960D7F503C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AC19C0-30AD-401A-9D04-3F446BA0FE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02BA41-5BED-41E2-B146-8EA89C0D21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8010B5-0BBC-458E-A6E7-7E26404B76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9FD77B-0FF9-4F35-89B1-7920F55AE9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558061-418C-4411-9C98-29C1728A36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DD8497-173D-4EFB-8DA7-04D291A727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5FB27E-B8EC-4472-946D-78945429D6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D9510-61BE-4386-9C74-1C1146496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582153-41FA-4477-8AD0-98B130044A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CA67F5-69C8-49B4-A013-DF08D86DF3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FFDDA6-2BE4-4D0E-9966-8E9DFDA348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C36D001-0714-4B94-A483-83B1951324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9E48DC6-9A6D-4F56-92D5-B0B0F91BFC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0A36F57-140F-4540-8EDD-DBBF2A333E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0277807-5745-4FAD-9C30-A8749E6A35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5AD1CD7-0D8D-4E25-871A-7AB85D062B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AF1FD22-01E6-4B4B-ABD9-DD357BD54E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0CB6290-EB26-4184-AACC-B8DAFB74BA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A7D74-BFAE-4D20-AC53-92B450216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54EBDD-69FF-456A-905B-DADF06210D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8C0E44-3E59-4539-A3C2-6DC1F67204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F3AD515-C0AA-400D-9FAB-5D2F59F69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447D561-D339-4CEF-ADE7-B925716A88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5BFF712-671D-428B-91B1-E682AE0B36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6DA51-CC7E-4DEA-87E2-D0EA87137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DF3F8-4A33-498E-8923-4508BF985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C0909-62EC-40BD-BA18-6CE83F7BF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7BDC9-D12A-4CF7-9D89-621814E61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A8C0F-1C1B-4918-BFA9-BE0F1B60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4F1A6-4185-411A-A527-817359BF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52187-47B2-4B63-A4C2-0E8859DF9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257DD-7F18-4AE6-8495-89CBB1A6F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82446-DF3D-416B-A81D-2891FB9DD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9F893-BED5-40B8-98CB-B57F20EF4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0BF98-570A-4244-80A4-7B7668FDF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9E898-AC5F-4D8F-9647-39CA328D3E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A4834-4FF1-4249-8B1B-E56560194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6D587-FEF8-48EF-AEB3-289DBB3A6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1E9CB2-9A4A-490E-86D1-0FBAD2BC2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C1AD0-952B-4E1E-BB54-4B71898F2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FBAF-5E9E-4B73-B405-BCE969FE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138F5-8456-4E34-84F9-ACCBE06DF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816EA-3D54-44CF-A2E1-604E01A8F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BEDAE-89D7-48AD-9659-D346F687B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B1BE6-C939-42E6-9FFD-B7920A263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38F7F-F47F-404C-944F-60782049A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746854-3C22-414C-BC35-52658B78C9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39404-1D7B-4283-B9F2-28A1994BF7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C9F6AD-B731-441B-AA14-F73AB467A4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6AA8387-B475-4390-A990-5AAD282E57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8D1581B-4018-4A8B-A450-C1DC89E8CE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D64EB-EFE7-4F96-9383-55A20616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8568D60-273B-4855-AB00-135FD08FE0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6E41A0-172F-421A-9046-A5650D47B3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1123759-21B1-49C1-B38D-3DEDCEC39E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7697F4A-45C1-4892-9B25-9F213D2CBD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7328D5F-5EF0-47E1-BA09-69D2CCD608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C4E8326-3CF9-45CB-B218-A4B79EC01E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16AFD6D-028F-4792-B2F5-65738B6110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4E6D30B-0E54-4C14-BAF3-70397A6CF1A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74E1061-1A5A-4F3F-86BE-9B8CDB8354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16F122-9B5F-4197-A36A-7CDCF9F223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1FFA-A818-45F1-8FB1-461122150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70394-C9AB-4F8F-B0D3-7D8379ECCF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3D53A-75BA-4DAE-8A40-79884E98D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015BCF-44CD-459A-8566-69FD9B0E4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D49E5-D46A-498C-8E3F-760AB3A26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3C3964-6B69-48EE-A600-2BCA8AF1F2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5B45A-1F70-4FA1-BE37-CDC8F483E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BE54D-14AF-4E38-AFBB-9F7E16514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B6578-59FF-401F-BA40-F18C576B9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14B7B-BE01-470B-9DEB-4CB323B011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23AAC8-2A3D-4910-B32E-78BB790E1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18D1C-C1A4-4FF7-AE2C-98A97151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33CF7D-EC91-4ACE-A0BD-8AD6BC63D1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B105E-59E6-445C-9F61-42DE5B68B6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71D0A0-C6F8-4A28-B6CF-7F74C58380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5F829A-6D05-47D8-BB79-E6954F958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88BE3F-F5EB-477D-B899-2500BEB0D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E8C4D2-D279-476F-9C95-F2AC4B2716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5BCD0-0432-4813-9173-E7D86141C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BAD35-9B96-44F1-A817-380C47D88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38370-45B0-4889-A4B9-AF1D6D150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E8157-94A7-4C63-8E39-BE0E8C6E8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D7B5-D0A0-4B6D-B874-32B02DA08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2C633-CEF3-4F4D-B16F-F381633B25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56C29-86B9-4905-ABD0-41D383DC25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D24EC4-9FEC-4399-8FBD-34C5B4B8D3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C3AD54-4DC5-438B-B8F5-C7D820DBAD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E7CD3-9F6C-45E4-9481-4760150B5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786B2-0750-43DD-AF7E-AD0FC4C9E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F5257-24D6-445E-B67F-009AB87DF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58140-E028-44E4-983E-CA59F6C79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F4C98-AE78-4C42-B500-AC0907352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B042E-51AF-4154-A4D6-B7A7CB7C4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AD60-9CD5-4C37-866B-50EA5B16E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C90C4-91E9-4CC9-B46F-1EBA3B0DE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D1F45-5CF6-4BF0-9F67-36B667201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EADD4E-F2A1-4A76-BEFC-79EADCBF1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150C7E-50C5-4B79-AA75-E238565807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D11F0E-7A95-4D15-9C30-F1C350D12A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62DC38-267F-4F93-988C-C8C1345C55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693ED1-1604-4A1A-9D6F-7E99EE6D6F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083EB3-8C73-4C1D-8992-13CFE0874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17FA55-5F65-4962-9D44-15C707184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E5EF0-0738-4D2F-91BE-5ABD8E44CA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BF4C-4B88-4ACA-AE35-DCB3CAA8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791705-2727-4670-8DCA-655644F8E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83689-ED5A-4D05-8FB0-332594314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22A17-525F-48FB-9046-80A5B44E6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FE3D9-6EFA-4CBE-823C-B09424546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80A69-07FF-4A4A-91BB-60B30976F3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D0A6DB-F5CC-4B67-9F18-4C0A18C24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D19526-786A-4CE1-9746-C566F1325F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0441FC5-174B-424F-ABF0-C30BE19612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7F2D0F6-AB8F-4AE7-B2F7-8C33FCA488E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58010F-0974-4F2B-8984-E6F033AF581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C7F9-2B0D-4FC7-A3C4-82F9BEF20C3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05D1-6993-47AD-AAC1-435EB504F5F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32BF-9321-40FC-A8EC-CDDFAC21025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6A80-C94E-40F7-862A-6AA7A9A5577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E5F1-D8BA-4CBE-9F3B-AABDB17F402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6FCA-1391-4D16-AED8-15E293FFEBD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998F-3208-485A-A3BA-C173EB58B7E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E22E-0B62-40EC-BF72-82FBAEE75E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CD3D-181F-4BC4-951A-09830E4E173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ACEA-1DAB-4A16-9DA0-97B085A8684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8455-B672-4915-8EE8-D264A1CFD2D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1F40-B1B8-4D46-A3FE-885FA02B148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BY</a:t>
            </a:r>
            <a:endParaRPr b="0" lang="en-US" sz="2000" spc="-1" strike="noStrike">
              <a:solidFill>
                <a:srgbClr val="000000"/>
              </a:solidFill>
              <a:latin typeface="Georgia"/>
            </a:endParaRPr>
          </a:p>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GLORIA WHALEN</a:t>
            </a:r>
            <a:endParaRPr b="0" lang="en-US" sz="20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eaching a Critical Metho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5" descr="C:\Users\figlecuy\AppData\Local\Microsoft\Windows\Temporary Internet Files\Content.IE5\V1NQP90U\MC900441763[1].png"/>
          <p:cNvPicPr/>
          <p:nvPr/>
        </p:nvPicPr>
        <p:blipFill>
          <a:blip r:embed="rId1"/>
          <a:stretch/>
        </p:blipFill>
        <p:spPr>
          <a:xfrm>
            <a:off x="-19080" y="1401840"/>
            <a:ext cx="2805120" cy="2805120"/>
          </a:xfrm>
          <a:prstGeom prst="rect">
            <a:avLst/>
          </a:prstGeom>
          <a:ln w="0">
            <a:noFill/>
          </a:ln>
        </p:spPr>
      </p:pic>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0"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2" name="Picture 1" descr=""/>
          <p:cNvPicPr/>
          <p:nvPr/>
        </p:nvPicPr>
        <p:blipFill>
          <a:blip r:embed="rId3"/>
          <a:stretch/>
        </p:blipFill>
        <p:spPr>
          <a:xfrm rot="615000">
            <a:off x="6067440" y="2147760"/>
            <a:ext cx="2455920" cy="3643560"/>
          </a:xfrm>
          <a:prstGeom prst="rect">
            <a:avLst/>
          </a:prstGeom>
          <a:ln w="0">
            <a:noFill/>
          </a:ln>
        </p:spPr>
      </p:pic>
      <p:pic>
        <p:nvPicPr>
          <p:cNvPr id="643"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6"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7"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8"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2"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3"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4"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5"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7"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21" name="Diagram 1" descr=""/>
          <p:cNvPicPr/>
          <p:nvPr/>
        </p:nvPicPr>
        <p:blipFill>
          <a:blip r:embed="rId1"/>
          <a:stretch/>
        </p:blipFill>
        <p:spPr>
          <a:xfrm>
            <a:off x="1968480" y="2816280"/>
            <a:ext cx="5133960" cy="3213000"/>
          </a:xfrm>
          <a:prstGeom prst="rect">
            <a:avLst/>
          </a:prstGeom>
          <a:ln w="0">
            <a:noFill/>
          </a:ln>
        </p:spPr>
      </p:pic>
      <p:sp>
        <p:nvSpPr>
          <p:cNvPr id="622"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IC AND EMIC POINT OF VIEW</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5"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8"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9"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IEGESIS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1"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3"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5"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Mark Stoner</cp:lastModifiedBy>
  <cp:lastPrinted>2014-03-27T00:42:14Z</cp:lastPrinted>
  <dcterms:modified xsi:type="dcterms:W3CDTF">2014-04-02T01:53:40Z</dcterms:modified>
  <cp:revision>35</cp:revision>
  <dc:subject/>
  <dc:title>Critical Method</dc:title>
</cp:coreProperties>
</file>