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9591-512F-47FF-BF34-2DCCCF886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9BFD-0231-4DEF-81B7-58C16A85D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2885-6549-408F-9EB7-A2E43BEBE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B3EC-6355-4007-BB9E-44DD997AE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2BE6-C150-4916-B5DE-D2253EB22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6586-4974-4706-8379-8B861F090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BA6D-47C1-4A02-BF9B-E0BA8222F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6AEC-99A6-439F-8B69-B1988F273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0D82-AE1C-4D1F-92C1-290075B9E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0CE1-2A83-49B0-8CEA-50CE02916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83AF-B16C-4257-A1F2-7C722100B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1FA7-A3B3-4465-A689-E1D00C5D7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E133-691C-4842-AC95-9E217DEE1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CEEC-A3C4-451D-BBEE-8EC6B9C26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D93F-7D64-44A8-9C9F-63C6070EC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7AB-1006-4DB9-A84D-C4921C8C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C74-6994-4558-AC7F-6CDC2C75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DE9-39E0-4C3A-827B-1068FED8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3AF-B36C-4A0B-B74D-75ABE32D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EF0-5551-4989-9BE8-A896BD2B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B89-624C-425B-BF87-E91D9C30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4EC-8DC7-4390-A67F-E779635E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273-166B-48D3-A4F9-906061BD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5D4-4AB8-4E0E-8378-B82020BC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6A2-FACA-432B-811E-905D4143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0F7-FCFD-4B05-B314-82AC9FC0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26F-DC96-4C7E-8BC0-D42BC6C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5FF8-9674-4680-87C8-E18DBAFDF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:\KINGSTON-NOV2010\Mark'sStuff\ComS100B\Activities\Session21\ComS100B-VisualComm-IndeterminateImage.jpg"/>
          <p:cNvPicPr/>
          <p:nvPr/>
        </p:nvPicPr>
        <p:blipFill>
          <a:blip r:embed="rId1"/>
          <a:stretch/>
        </p:blipFill>
        <p:spPr>
          <a:xfrm>
            <a:off x="2209680" y="303120"/>
            <a:ext cx="415296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987200" y="2428920"/>
            <a:ext cx="564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, find a person from the other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messag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w to your colleag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finished we’ll look at the complete messag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dvert1"/>
          <p:cNvPicPr/>
          <p:nvPr/>
        </p:nvPicPr>
        <p:blipFill>
          <a:blip r:embed="rId1"/>
          <a:stretch/>
        </p:blipFill>
        <p:spPr>
          <a:xfrm>
            <a:off x="2971800" y="0"/>
            <a:ext cx="331776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794600" y="1523880"/>
            <a:ext cx="764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cur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gument made in the mess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What is the rhetorical function of the picture?  (Beyond titilation, which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can stipulate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Do the two work conjointly or in contradi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691200" y="1676520"/>
            <a:ext cx="764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What was the discursive argument made in the discur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part of the mess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rhetorical function of the picture?  (Beyond titilation, which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ipulate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Do the two work conjointly or in contradi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794600" y="1523880"/>
            <a:ext cx="764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What was the discursive argument made in the discur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part of the mess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What is the rhetorical function of the picture?  (Beyond titilation, which w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can stipulate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two work in conjunction or in contradic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562040" y="2209680"/>
            <a:ext cx="601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#1 is “indeterminate”— presentatio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“points to” something but giv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o how we are to make sense of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sequently, I argue that an image or objec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n argument by itself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KINGSTON-NOV2010\Mark'sStuff\ComS100B\Activities\Session21\ComS100B-VisualComm-DeterminateImage.jpg"/>
          <p:cNvPicPr/>
          <p:nvPr/>
        </p:nvPicPr>
        <p:blipFill>
          <a:blip r:embed="rId1"/>
          <a:stretch/>
        </p:blipFill>
        <p:spPr>
          <a:xfrm>
            <a:off x="201600" y="838080"/>
            <a:ext cx="8675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856520" y="1600200"/>
            <a:ext cx="509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#1 is “indeterminate”— presentational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“points to” something but gives no gui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o how we are to make sense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#2 provides a discursive “guide”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and meaning of the picture; they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gether in an attempt to create a positive fr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ind (emotinal appeal) regarding SacP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028880" y="1600200"/>
            <a:ext cx="70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going to divide the class in two groups, A &amp; B. The As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the next slide.  The Bs will close their eyes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eeking! (It will take a few minutes, so don’t get impatie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proceed to the next slide, the Bs will ex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ide and the As will close their e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in the series, we’ll examine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AdvertEdit2"/>
          <p:cNvPicPr/>
          <p:nvPr/>
        </p:nvPicPr>
        <p:blipFill>
          <a:blip r:embed="rId1"/>
          <a:stretch/>
        </p:blipFill>
        <p:spPr>
          <a:xfrm>
            <a:off x="2446200" y="0"/>
            <a:ext cx="35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518200" y="2438280"/>
            <a:ext cx="454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is saying? 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best you can, answer thes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SampleAdvertEdit1"/>
          <p:cNvPicPr/>
          <p:nvPr/>
        </p:nvPicPr>
        <p:blipFill>
          <a:blip r:embed="rId1"/>
          <a:stretch/>
        </p:blipFill>
        <p:spPr>
          <a:xfrm>
            <a:off x="2819520" y="0"/>
            <a:ext cx="337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518200" y="2438280"/>
            <a:ext cx="454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is saying? 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best you can, answer thes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23:11:50Z</dcterms:created>
  <dc:creator>Mark</dc:creator>
  <dc:description/>
  <dc:language>en-US</dc:language>
  <cp:lastModifiedBy>Stoner, Mark R</cp:lastModifiedBy>
  <dcterms:modified xsi:type="dcterms:W3CDTF">2014-04-08T17:27:10Z</dcterms:modified>
  <cp:revision>26</cp:revision>
  <dc:subject/>
  <dc:title>Slide 1</dc:title>
</cp:coreProperties>
</file>