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A3F3-B6EE-4E0B-A3CF-673C917F2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FC21-E051-4ED7-A3E3-AA79D9E39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690C-E814-40DD-B150-0F793FE1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31C3-8D93-4BAE-B8A4-211939EFB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963D-E7F2-47DD-A1D1-0B377C911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D8E0-12D4-4BF1-9E8A-B0CDAFCEC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EF63-F668-4CD5-B752-41652948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8531-89FE-43AA-BAE6-D4D14E581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DBA1-5C8E-48EF-A665-5D609E525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0C2E-9235-4276-B5B3-970731CA1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9F87-D61B-40B1-9E74-5AC09F62B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245C-BD48-4E37-947E-C73FD04E0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0FA9-486B-4AAC-95D8-6471B93D2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8C0A-1382-4BF1-88CB-92A54582F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EF21-AD4A-4181-A9FA-DBEF89B4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AF9-D004-423F-9DE4-4578FAEC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EDB-6449-4330-AF5C-C2B00FC7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DD7-8C94-4F03-BCF5-17CBF6AD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53C-72C4-4D16-B318-8474EAB0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0BC-3BA0-4B2F-A3BB-61F111E4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309-BE2E-4EE5-A96B-2C2432E9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C47-F3BF-4BF2-87F9-2B64B742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C75-FE94-44A6-89B4-B4A48DEF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D5B-502F-48EC-B577-3E5531E0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103-F5AF-4CA0-ADE5-C24BB24F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466-49FA-4704-9083-20752F51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063-9F7C-4E7E-BA9F-EE304D96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CBF1-F34E-452B-A686-07EEBDDE1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KINGSTON-NOV2010\Mark'sStuff\ComS100B\Activities\Session21\ComS100B-VisualComm-IndeterminateImage.jpg"/>
          <p:cNvPicPr/>
          <p:nvPr/>
        </p:nvPicPr>
        <p:blipFill>
          <a:blip r:embed="rId1"/>
          <a:stretch/>
        </p:blipFill>
        <p:spPr>
          <a:xfrm>
            <a:off x="2209680" y="303120"/>
            <a:ext cx="415296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987200" y="2428920"/>
            <a:ext cx="56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, find a person from the other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messag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w to your colleag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inished we’ll look at the complete messag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dvert1"/>
          <p:cNvPicPr/>
          <p:nvPr/>
        </p:nvPicPr>
        <p:blipFill>
          <a:blip r:embed="rId1"/>
          <a:stretch/>
        </p:blipFill>
        <p:spPr>
          <a:xfrm>
            <a:off x="2971800" y="0"/>
            <a:ext cx="33177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794600" y="1523880"/>
            <a:ext cx="76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ur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gument made in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What is the rhetorical function of the picture?  (Beyond titilation, which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can stipulate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Do the two work conjointly or in contradi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691200" y="1676520"/>
            <a:ext cx="764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What was the discursive argument made in the discur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part of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rhetorical function of the picture?  (Beyond titilation, which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ipulate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Do the two work conjointly or in contradi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794600" y="1523880"/>
            <a:ext cx="764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What was the discursive argument made in the discur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part of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What is the rhetorical function of the picture?  (Beyond titilation, which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can stipulate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two work in conjunction or in contradic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562040" y="220968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#1 is “indeterminate”— presentatio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“points to” something but giv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o how we are to make sense of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sequently, I argue that an image or objec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n argument by itself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KINGSTON-NOV2010\Mark'sStuff\ComS100B\Activities\Session21\ComS100B-VisualComm-DeterminateImage.jpg"/>
          <p:cNvPicPr/>
          <p:nvPr/>
        </p:nvPicPr>
        <p:blipFill>
          <a:blip r:embed="rId1"/>
          <a:stretch/>
        </p:blipFill>
        <p:spPr>
          <a:xfrm>
            <a:off x="201600" y="838080"/>
            <a:ext cx="8675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56520" y="1600200"/>
            <a:ext cx="509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#1 is “indeterminate”— presentation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“points to” something but gives no gui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o how we are to make sense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#2 provides a discursive “guide”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and meaning of the picture; they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gether in an attempt to create a positive f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ind (emotinal appeal) regarding SacP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028880" y="1600200"/>
            <a:ext cx="70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going to divide the class in two groups, A &amp; B. The As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next slide.  The Bs will close their eyes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eeking! (It will take a few minutes, so don’t get impatie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proceed to the next slide, the Bs will 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ide and the As will close their e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in the series, we’ll examine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AdvertEdit2"/>
          <p:cNvPicPr/>
          <p:nvPr/>
        </p:nvPicPr>
        <p:blipFill>
          <a:blip r:embed="rId1"/>
          <a:stretch/>
        </p:blipFill>
        <p:spPr>
          <a:xfrm>
            <a:off x="2446200" y="0"/>
            <a:ext cx="35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518200" y="2438280"/>
            <a:ext cx="454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is saying?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est you can, answer thes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SampleAdvertEdit1"/>
          <p:cNvPicPr/>
          <p:nvPr/>
        </p:nvPicPr>
        <p:blipFill>
          <a:blip r:embed="rId1"/>
          <a:stretch/>
        </p:blipFill>
        <p:spPr>
          <a:xfrm>
            <a:off x="2819520" y="0"/>
            <a:ext cx="337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518200" y="2438280"/>
            <a:ext cx="454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is saying?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est you can, answer thes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23:11:50Z</dcterms:created>
  <dc:creator>Mark</dc:creator>
  <dc:description/>
  <dc:language>en-US</dc:language>
  <cp:lastModifiedBy>Stoner, Mark R</cp:lastModifiedBy>
  <dcterms:modified xsi:type="dcterms:W3CDTF">2014-04-08T17:27:10Z</dcterms:modified>
  <cp:revision>26</cp:revision>
  <dc:subject/>
  <dc:title>Slide 1</dc:title>
</cp:coreProperties>
</file>