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87A5-2F1D-4252-8CFE-2D8424DD4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34AA-02C6-4A4F-9431-985CD3006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6EDD-7816-45F5-A3E4-4DF0C3B99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D2B3-9011-4BD5-B1F8-41616AE23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AFDD-5607-405E-BC16-B48B31DC7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D4E0-6BE9-4C2D-8EFC-690814FD0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4C36-7158-43A4-B444-8730D4774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350E-3DF0-4728-86AF-688837904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E69A-430D-4E28-BAF8-FF71A9F5C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2B67-1518-4F0C-95BB-492EDF655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F995-ADF3-4209-997E-14D359711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8523-D1A2-4BF3-8E0F-58BE048E8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3599-1C6D-410F-8742-83D88CD96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A4B8-06F8-470A-A97A-5998A5365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BD2C-161B-4E21-8C9A-E5D1EB2A3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E07A-9F47-4A97-B260-BB079DD67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A0CD-2A47-40EC-9534-E45D6094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59E5-F4AE-4DE8-9D10-8275A06D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25E9-41A7-49A3-B8BD-0D281B2F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7E0E-C4FB-483D-89E8-7CE1188B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5311-FA4C-4812-B0D2-A06A7FBF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C50C-54E2-41C4-952D-433C84D2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634D-CD27-44F3-8E1A-9CA0BEA9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3D72-1C49-4D04-A757-ACEE3DF4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DC65-64B7-4661-B93A-1FD0167D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5429-BA47-427F-8914-E10ED128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BE9D-3CC4-474E-B4A7-BFE41A32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2529-AF65-4C50-8657-FAC2100DB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:\KINGSTON-NOV2010\Mark'sStuff\ComS100B\Activities\Session21\ComS100B-VisualComm-IndeterminateImage.jpg"/>
          <p:cNvPicPr/>
          <p:nvPr/>
        </p:nvPicPr>
        <p:blipFill>
          <a:blip r:embed="rId1"/>
          <a:stretch/>
        </p:blipFill>
        <p:spPr>
          <a:xfrm>
            <a:off x="2209680" y="303120"/>
            <a:ext cx="4152960" cy="62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1987200" y="2428920"/>
            <a:ext cx="564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, find a person from the other gro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crib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messag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aw to your colleag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finished we’ll look at the complete messag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Advert1"/>
          <p:cNvPicPr/>
          <p:nvPr/>
        </p:nvPicPr>
        <p:blipFill>
          <a:blip r:embed="rId1"/>
          <a:stretch/>
        </p:blipFill>
        <p:spPr>
          <a:xfrm>
            <a:off x="2971800" y="0"/>
            <a:ext cx="331776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1794600" y="1523880"/>
            <a:ext cx="7640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as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scur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gument made in the mess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cc"/>
                </a:solidFill>
                <a:latin typeface="Arial"/>
              </a:rPr>
              <a:t>What is the rhetorical function of the picture?  (Beyond titilation, which w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cc"/>
                </a:solidFill>
                <a:latin typeface="Arial"/>
              </a:rPr>
              <a:t>can stipulate.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Do the two work conjointly or in contradic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691200" y="1676520"/>
            <a:ext cx="7640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What was the discursive argument made in the discur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part of the mess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rhetorical function of the picture?  (Beyond titilation, which w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tipulate.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Do the two work conjointly or in contradic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1794600" y="1523880"/>
            <a:ext cx="7640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What was the discursive argument made in the discur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part of the mess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cc"/>
                </a:solidFill>
                <a:latin typeface="Arial"/>
              </a:rPr>
              <a:t>What is the rhetorical function of the picture?  (Beyond titilation, which w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cc"/>
                </a:solidFill>
                <a:latin typeface="Arial"/>
              </a:rPr>
              <a:t>can stipulate.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the two work in conjunction or in contradicti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1562040" y="2209680"/>
            <a:ext cx="6019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de #1 is “indeterminate”— presentational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“points to” something but giv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 gui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 to how we are to make sense of 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sequently, I argue that an image or objec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n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n argument by itself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F:\KINGSTON-NOV2010\Mark'sStuff\ComS100B\Activities\Session21\ComS100B-VisualComm-DeterminateImage.jpg"/>
          <p:cNvPicPr/>
          <p:nvPr/>
        </p:nvPicPr>
        <p:blipFill>
          <a:blip r:embed="rId1"/>
          <a:stretch/>
        </p:blipFill>
        <p:spPr>
          <a:xfrm>
            <a:off x="201600" y="838080"/>
            <a:ext cx="86756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856520" y="1600200"/>
            <a:ext cx="5092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#1 is “indeterminate”— presentationall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“points to” something but gives no guid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to how we are to make sense of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#2 provides a discursive “guide” to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pose and meaning of the picture; they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gether in an attempt to create a positive fr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mind (emotinal appeal) regarding SacPa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1028880" y="1600200"/>
            <a:ext cx="7086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going to divide the class in two groups, A &amp; B. The As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the next slide.  The Bs will close their eyes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eeking! (It will take a few minutes, so don’t get impatie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we proceed to the next slide, the Bs will ex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lide and the As will close their ey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hird in the series, we’ll examine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AdvertEdit2"/>
          <p:cNvPicPr/>
          <p:nvPr/>
        </p:nvPicPr>
        <p:blipFill>
          <a:blip r:embed="rId1"/>
          <a:stretch/>
        </p:blipFill>
        <p:spPr>
          <a:xfrm>
            <a:off x="2446200" y="0"/>
            <a:ext cx="351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2518200" y="2438280"/>
            <a:ext cx="454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is saying? What does this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best you can, answer these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SampleAdvertEdit1"/>
          <p:cNvPicPr/>
          <p:nvPr/>
        </p:nvPicPr>
        <p:blipFill>
          <a:blip r:embed="rId1"/>
          <a:stretch/>
        </p:blipFill>
        <p:spPr>
          <a:xfrm>
            <a:off x="2819520" y="0"/>
            <a:ext cx="337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2518200" y="2438280"/>
            <a:ext cx="454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is saying? What does this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best you can, answer these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23:11:50Z</dcterms:created>
  <dc:creator>Mark</dc:creator>
  <dc:description/>
  <dc:language>en-US</dc:language>
  <cp:lastModifiedBy>Stoner, Mark R</cp:lastModifiedBy>
  <dcterms:modified xsi:type="dcterms:W3CDTF">2014-04-08T17:27:10Z</dcterms:modified>
  <cp:revision>26</cp:revision>
  <dc:subject/>
  <dc:title>Slide 1</dc:title>
</cp:coreProperties>
</file>