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2F8F-083C-46BC-9B77-48BA4C76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B1E0-093D-4070-934A-319870459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2F1F-3078-43D7-85E4-DAA63CAE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74E8-05CE-4AE4-A02D-F4C7D108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760-C63C-4F61-8A7C-233AAC2C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2585-D961-448F-9BDD-17AA42E7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59E7-E828-4389-B83C-12E60BAE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1C3A-B568-4D35-8017-0942175AC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5A98-CA8E-43C3-A0C1-D98329ED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666-0117-4CE0-9E2F-BECB3AE1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8F3-20C1-4123-BB86-5AD8F61D9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52CB-60DD-471A-993B-73A2DC73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ACE-7BCC-4410-A6E8-F6A48886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53A-1057-4B48-84E8-A9D83BB7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45DD-4435-4ED1-B12E-50786506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C0F-8CE2-4B05-8A53-689F13A6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877-A182-41F9-A06F-CA535AF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093-8442-47B6-878C-95E53A0A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122-BAC3-4147-B17B-99F756FC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E3E-B9CA-4500-8EE3-9E5CD8A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DE9-A7CF-49A5-AAEF-EFEF4817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7F4-5E53-4E1F-9F29-F3693124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C9B-BC75-456F-9F68-A5FE2F7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965-E8D7-48F8-ABC9-98D36102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9B4-9DE6-4E9B-B243-15C9F628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3DC-1E23-486B-B844-48210B8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452-26A6-4BA5-9055-23F5558B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3AEB-D1B1-449C-9AFF-A84996302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KINGSTON-NOV2010\Mark'sStuff\ComS100B\Activities\Session21\ComS100B-VisualComm-IndeterminateImage.jpg"/>
          <p:cNvPicPr/>
          <p:nvPr/>
        </p:nvPicPr>
        <p:blipFill>
          <a:blip r:embed="rId1"/>
          <a:stretch/>
        </p:blipFill>
        <p:spPr>
          <a:xfrm>
            <a:off x="2209680" y="303120"/>
            <a:ext cx="41529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987200" y="2428920"/>
            <a:ext cx="56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find a person from the other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essag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w to your collea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 we’ll look at the complete messag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dvert1"/>
          <p:cNvPicPr/>
          <p:nvPr/>
        </p:nvPicPr>
        <p:blipFill>
          <a:blip r:embed="rId1"/>
          <a:stretch/>
        </p:blipFill>
        <p:spPr>
          <a:xfrm>
            <a:off x="2971800" y="0"/>
            <a:ext cx="3317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794600" y="1523880"/>
            <a:ext cx="76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 made in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691200" y="1676520"/>
            <a:ext cx="764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794600" y="1523880"/>
            <a:ext cx="764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wo work in conjunction or in contradic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562040" y="220968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1 is “indeterminate”— presentatio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equently, I argue that an image or ob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 argument by itsel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KINGSTON-NOV2010\Mark'sStuff\ComS100B\Activities\Session21\ComS100B-VisualComm-DeterminateImage.jpg"/>
          <p:cNvPicPr/>
          <p:nvPr/>
        </p:nvPicPr>
        <p:blipFill>
          <a:blip r:embed="rId1"/>
          <a:stretch/>
        </p:blipFill>
        <p:spPr>
          <a:xfrm>
            <a:off x="201600" y="838080"/>
            <a:ext cx="867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6520" y="1600200"/>
            <a:ext cx="509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1 is “indeterminate”— presentation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no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2 provides a discursive “guide”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and meaning of the picture; they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 in an attempt to create a positiv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ind (emotinal appeal) regarding SacP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28880" y="1600200"/>
            <a:ext cx="70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going to divide the class in two groups, A &amp; B. The A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next slide.  The Bs will close their eye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eeking! (It will take a few minutes, so don’t get impatie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proceed to the next slide, the Bs will 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ide and the As will close their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in the series, we’ll examine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dvertEdit2"/>
          <p:cNvPicPr/>
          <p:nvPr/>
        </p:nvPicPr>
        <p:blipFill>
          <a:blip r:embed="rId1"/>
          <a:stretch/>
        </p:blipFill>
        <p:spPr>
          <a:xfrm>
            <a:off x="2446200" y="0"/>
            <a:ext cx="35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ampleAdvertEdit1"/>
          <p:cNvPicPr/>
          <p:nvPr/>
        </p:nvPicPr>
        <p:blipFill>
          <a:blip r:embed="rId1"/>
          <a:stretch/>
        </p:blipFill>
        <p:spPr>
          <a:xfrm>
            <a:off x="2819520" y="0"/>
            <a:ext cx="33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23:11:50Z</dcterms:created>
  <dc:creator>Mark</dc:creator>
  <dc:description/>
  <dc:language>en-US</dc:language>
  <cp:lastModifiedBy>Stoner, Mark R</cp:lastModifiedBy>
  <dcterms:modified xsi:type="dcterms:W3CDTF">2014-04-08T17:27:10Z</dcterms:modified>
  <cp:revision>26</cp:revision>
  <dc:subject/>
  <dc:title>Slide 1</dc:title>
</cp:coreProperties>
</file>