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jpeg" ContentType="image/jpeg"/>
  <Override PartName="/ppt/media/image5.wmf" ContentType="image/x-wmf"/>
  <Override PartName="/ppt/media/image11.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wmf" ContentType="image/x-wmf"/>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60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3CEC3-5B11-40E2-901D-ADBDE085949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04840" y="696960"/>
            <a:ext cx="4648320" cy="3486240"/>
          </a:xfrm>
          <a:prstGeom prst="rect">
            <a:avLst/>
          </a:prstGeom>
          <a:ln w="0">
            <a:noFill/>
          </a:ln>
        </p:spPr>
      </p:sp>
      <p:sp>
        <p:nvSpPr>
          <p:cNvPr id="6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se methods – critical lens – we can see how cultural and narrative criticism is a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way I’ll be looking at the text of Barker’s, “Wanted, A Young Women to do Work”.  Interpreting this text from the cultural and narrative persp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ading text, we look through a lens.  This lens provides a way to see the text.  This leads the reader to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text trying to persuade us t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other voices in the conversation that the text is joining?  Is it responding to any of the voices or opin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or want us to see what is wrong?  Are we being persuaded to act on civil discourse?</a:t>
            </a:r>
            <a:endParaRPr b="0" lang="en-US" sz="1200" spc="-1" strike="noStrike">
              <a:solidFill>
                <a:srgbClr val="000000"/>
              </a:solidFill>
              <a:latin typeface="Calibri"/>
            </a:endParaRPr>
          </a:p>
        </p:txBody>
      </p:sp>
      <p:sp>
        <p:nvSpPr>
          <p:cNvPr id="66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B51DD-33B6-4472-AFC8-55709B09A96A}"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04840" y="696960"/>
            <a:ext cx="4648320" cy="3486240"/>
          </a:xfrm>
          <a:prstGeom prst="rect">
            <a:avLst/>
          </a:prstGeom>
          <a:ln w="0">
            <a:noFill/>
          </a:ln>
        </p:spPr>
      </p:sp>
      <p:sp>
        <p:nvSpPr>
          <p:cNvPr id="6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C3CC2-D776-4B6B-A6F0-CA9BDA7EBC9B}"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04840" y="696960"/>
            <a:ext cx="4648320" cy="3486240"/>
          </a:xfrm>
          <a:prstGeom prst="rect">
            <a:avLst/>
          </a:prstGeom>
          <a:ln w="0">
            <a:noFill/>
          </a:ln>
        </p:spPr>
      </p:sp>
      <p:sp>
        <p:nvSpPr>
          <p:cNvPr id="6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260BD-EDD1-4E17-A0B9-CA89697D0B26}"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04840" y="696960"/>
            <a:ext cx="4648320" cy="3486240"/>
          </a:xfrm>
          <a:prstGeom prst="rect">
            <a:avLst/>
          </a:prstGeom>
          <a:ln w="0">
            <a:noFill/>
          </a:ln>
        </p:spPr>
      </p:sp>
      <p:sp>
        <p:nvSpPr>
          <p:cNvPr id="69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se methods – critical lens – we can see how cultural and narrative criticism is a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way I’ll be looking at the text of Barker’s, “Wanted, A Young Women to do Work”.  Interpreting this text from the cultural and narrative persp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ading text, we look through a lens.  This lens provides a way to see the text.  This leads the reader to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text trying to persuade us t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other voices in the conversation that the text is joining?  Is it responding to any of the voices or opin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or want us to see what is wrong?  Are we being persuaded to act on civil discourse?</a:t>
            </a:r>
            <a:endParaRPr b="0" lang="en-US" sz="1200" spc="-1" strike="noStrike">
              <a:solidFill>
                <a:srgbClr val="000000"/>
              </a:solidFill>
              <a:latin typeface="Calibri"/>
            </a:endParaRPr>
          </a:p>
        </p:txBody>
      </p:sp>
      <p:sp>
        <p:nvSpPr>
          <p:cNvPr id="6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48DDB-9120-48C3-8901-DCE9EE8B81DB}"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04840" y="696960"/>
            <a:ext cx="4648320" cy="3486240"/>
          </a:xfrm>
          <a:prstGeom prst="rect">
            <a:avLst/>
          </a:prstGeom>
          <a:ln w="0">
            <a:noFill/>
          </a:ln>
        </p:spPr>
      </p:sp>
      <p:sp>
        <p:nvSpPr>
          <p:cNvPr id="69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hoosing these methods – critical lens – we can see how cultural and narrative criticism is appl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way I’ll be looking at the text of Barker’s, “Wanted, A Young Women to do Work”.  Interpreting this text from the cultural and narrative persp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ading text, we look through a lens.  This lens provides a way to see the text.  This leads the reader to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text trying to persuade us to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other voices in the conversation that the text is joining?  Is it responding to any of the voices or opin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or want us to see what is wrong?  Are we being persuaded to act on civil discourse?</a:t>
            </a:r>
            <a:endParaRPr b="0" lang="en-US" sz="1200" spc="-1" strike="noStrike">
              <a:solidFill>
                <a:srgbClr val="000000"/>
              </a:solidFill>
              <a:latin typeface="Calibri"/>
            </a:endParaRPr>
          </a:p>
        </p:txBody>
      </p:sp>
      <p:sp>
        <p:nvSpPr>
          <p:cNvPr id="6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A7845-32F8-4E79-918B-6CC8BCC37B3B}"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04840" y="696960"/>
            <a:ext cx="4648320" cy="3486240"/>
          </a:xfrm>
          <a:prstGeom prst="rect">
            <a:avLst/>
          </a:prstGeom>
          <a:ln w="0">
            <a:noFill/>
          </a:ln>
        </p:spPr>
      </p:sp>
      <p:sp>
        <p:nvSpPr>
          <p:cNvPr id="66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23EB4-0802-4D6A-BCFA-C34E45059A78}"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04840" y="696960"/>
            <a:ext cx="4648320" cy="3486240"/>
          </a:xfrm>
          <a:prstGeom prst="rect">
            <a:avLst/>
          </a:prstGeom>
          <a:ln w="0">
            <a:noFill/>
          </a:ln>
        </p:spPr>
      </p:sp>
      <p:sp>
        <p:nvSpPr>
          <p:cNvPr id="66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9C579-18CC-4644-95F3-0D9BA025E757}"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04840" y="696960"/>
            <a:ext cx="4648320" cy="3486240"/>
          </a:xfrm>
          <a:prstGeom prst="rect">
            <a:avLst/>
          </a:prstGeom>
          <a:ln w="0">
            <a:noFill/>
          </a:ln>
        </p:spPr>
      </p:sp>
      <p:sp>
        <p:nvSpPr>
          <p:cNvPr id="66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questions for cultural criticis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n this text has authority or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is that power exerci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ly, who in the text is given a voice?  Who i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e text portray the dominant social norms (heg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ultural values are communicated by the text?</a:t>
            </a:r>
            <a:endParaRPr b="0" lang="en-US" sz="1200" spc="-1" strike="noStrike">
              <a:solidFill>
                <a:srgbClr val="000000"/>
              </a:solidFill>
              <a:latin typeface="Calibri"/>
            </a:endParaRPr>
          </a:p>
        </p:txBody>
      </p:sp>
      <p:sp>
        <p:nvSpPr>
          <p:cNvPr id="66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9CD1B-C40A-4599-BA2C-2652369F6D3C}"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04840" y="696960"/>
            <a:ext cx="4648320" cy="3486240"/>
          </a:xfrm>
          <a:prstGeom prst="rect">
            <a:avLst/>
          </a:prstGeom>
          <a:ln w="0">
            <a:noFill/>
          </a:ln>
        </p:spPr>
      </p:sp>
      <p:sp>
        <p:nvSpPr>
          <p:cNvPr id="67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questions for cultural criticis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n this text has authority or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is that power exerci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ly, who in the text is given a voice?  Who i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e text portray the dominant social norms (heg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ultural values are communicated by the text?</a:t>
            </a:r>
            <a:endParaRPr b="0" lang="en-US" sz="1200" spc="-1" strike="noStrike">
              <a:solidFill>
                <a:srgbClr val="000000"/>
              </a:solidFill>
              <a:latin typeface="Calibri"/>
            </a:endParaRPr>
          </a:p>
        </p:txBody>
      </p:sp>
      <p:sp>
        <p:nvSpPr>
          <p:cNvPr id="67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68019-C5B3-4DF1-BF83-F873F47FCEDA}"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04840" y="696960"/>
            <a:ext cx="4648320" cy="3486240"/>
          </a:xfrm>
          <a:prstGeom prst="rect">
            <a:avLst/>
          </a:prstGeom>
          <a:ln w="0">
            <a:noFill/>
          </a:ln>
        </p:spPr>
      </p:sp>
      <p:sp>
        <p:nvSpPr>
          <p:cNvPr id="67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19C7E-4D29-4D49-BA96-1BCEEC657CA1}"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04840" y="696960"/>
            <a:ext cx="4648320" cy="3486240"/>
          </a:xfrm>
          <a:prstGeom prst="rect">
            <a:avLst/>
          </a:prstGeom>
          <a:ln w="0">
            <a:noFill/>
          </a:ln>
        </p:spPr>
      </p:sp>
      <p:sp>
        <p:nvSpPr>
          <p:cNvPr id="67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ies of Moses, the 10 Commandments </a:t>
            </a:r>
            <a:endParaRPr b="0" lang="en-US" sz="1200" spc="-1" strike="noStrike">
              <a:solidFill>
                <a:srgbClr val="000000"/>
              </a:solidFill>
              <a:latin typeface="Calibri"/>
            </a:endParaRPr>
          </a:p>
        </p:txBody>
      </p:sp>
      <p:sp>
        <p:nvSpPr>
          <p:cNvPr id="6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E8748-1433-4129-A189-086C609B53C3}"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04840" y="696960"/>
            <a:ext cx="4648320" cy="3486240"/>
          </a:xfrm>
          <a:prstGeom prst="rect">
            <a:avLst/>
          </a:prstGeom>
          <a:ln w="0">
            <a:noFill/>
          </a:ln>
        </p:spPr>
      </p:sp>
      <p:sp>
        <p:nvSpPr>
          <p:cNvPr id="68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ting – How does the setting relate to the plot and characters? How is the particular setting created? Is the setting textually prominent – highly developed and detailed – or neglig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racters (Persona)– Are some of the characters non-human or inanimate phenomena, described as thinking and speaking beings? In what actions do the characters engage? Are the characters round (possess a variety of traits, some of them conflicting or contradictory) or flat (one or a few dominant traits making the character predic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rrator – Is the narrative presented directly to the audience, or is it mediated by a narrator? What makes the narrator intrusive or not? What kind of person is the narrator (examine his or her eth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vents – What are the major and minor events? How are the events presented? Are the events active (expressing action) or stative (expressing a state or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mporal relations – Do events occur in a brief period of time or over many years? What is the relationship between the natural order of the events as they occurred and the order of their presentation in the telling of a narrative? Is the story in past or present t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usal relations – What cause-and-effect relationships are established in the narrative? Are events caused largely by human action, accident, or forces of nature? In how much detail are the causes and effects describ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udience – Is the audience a participant in the events recounted? What can be inferred about the audience’s attitudes, knowledge, or situation from the narrative? What seems to be the narrator’s evaluation of the audience’s knowledge, personality, and ab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me – What is the major theme (general idea illustrated by the narrative) of the narrative? How is the theme articulated? How obvious and clear is the the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mitations: Traditional narrative criticism focuses primarily on the narrative and does not take the socioeconomic and political background into consideration; however, it is not opposed to New-Historicism theory. In addition, it does not take the narrator's motivations into consideration as it focuses on the narrative to generate the analysis. Also, as the critic looks at the overall unity of the narrative, the theory is not conducive to deconstruction techniques (19-2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C34D6-7899-491E-B863-E5FE102CB239}"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04840" y="696960"/>
            <a:ext cx="4648320" cy="3486240"/>
          </a:xfrm>
          <a:prstGeom prst="rect">
            <a:avLst/>
          </a:prstGeom>
          <a:ln w="0">
            <a:noFill/>
          </a:ln>
        </p:spPr>
      </p:sp>
      <p:sp>
        <p:nvSpPr>
          <p:cNvPr id="68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F7986-ACA5-4B89-96FE-D8B0ABD19117}"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A654A-A695-4868-AE66-3788346C4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F03DB-A274-4875-9ED8-5D2C1BCDC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6E9979E-085E-449D-880C-E8CAA4D033C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BEC9D19-E8FB-42E8-BB53-CE56C968527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7745590-5DF2-48F0-95D9-1566BEF5E82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A683C8B-5DE5-47F2-9540-259CD0B001A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3151DEC-8DE9-4F7F-A345-2F1699CC3B6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6442C79-7D4B-445C-BFF5-6B62249250C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8D2D5DB-4725-48F7-AD6D-568F25E159A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57202338-4703-48E7-AE84-E9665B2B78F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BF622397-539D-4237-89B1-61B057BC237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27F9B9A6-D0BB-4CC8-BD75-F1BF6014461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3EC68-68AF-411A-A629-61689515B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5431BF0-8257-4A5A-8C39-C966BC0A51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2F8C64E-CFC4-4AE9-BE23-202F6CB888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C0FD446-CB15-45A3-9401-D0A83976DC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6E2A5DD-5740-4738-9C1B-BA39B5B621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076B0EA-2B16-4E36-B942-CF7F0389D1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A508D93-5C00-4980-888D-E2C7BAC0B2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9566C82-F64E-49C4-B689-5584840446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24AEC5F-7EE6-45B2-8D88-3E12582CDF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16E9572-AB40-440D-849A-2DF5208ABD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0310B269-A902-4DC8-9E6A-908382190BA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ED512-25D6-49FD-A12A-2427A6CA5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0507D38C-B907-4686-B84D-7BD40D10572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2009E28-D03C-455E-93A3-08469BB65AD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3A89376-8019-4695-9434-5BD7A3B936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65C8130-9988-49CD-9B4A-D5440FE317F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9BD45AF-1F17-4AAF-B8FE-1DB66FCB2A9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84654A0-885B-421F-8F9C-5C2644D4752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9CFC94C-7FD3-40B2-8423-48C66913115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3D5049-9C16-4FD0-A742-762E79FBC1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257394-9F42-42CA-8654-271A8DADAB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87D7C3-2788-4995-A5F2-64D58FB2A5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EB25CA-A647-4778-B20C-3E681454A7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229903-B3D4-40D0-AE32-C7CA9DBCB9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918417C-8701-4F98-B7AD-4BB77B88250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EBC86C6-8244-40F6-B47F-A7AA52C90E1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B770668-A1D2-47B1-B53A-AC971D8AAE8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E058568-A83A-49EE-ABF8-5D70A2DF5A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E17EA71-54F8-4C98-B175-82841D2DAD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20EA000-C883-4A3D-8F91-29B54FE689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B43D85C-4B35-424A-B700-332DFAC4B4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B431DD3-FEE0-4FA3-8909-D5BF2EC33C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1E7E5AA-AA93-41D9-9775-FB9D4B8E26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980CC-BA25-4BFF-BCF6-C2202D4DB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E146BCD-DD99-4DB5-8165-BA1CB18879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888086B-48EC-4C45-BB33-B725584E90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74EEBDD-A701-46A8-B7B4-DB50D6C592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C4F5F63-F2A3-40EF-9D47-66C16711BD2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056BE64A-8D16-46CF-9B28-A9AAE196B92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0005B-8988-4EC6-A0C5-9C355183D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D8ACA-709C-4EC9-AFC8-D735B5A6A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EF7AB-C97A-4C90-BD8B-3899BACB6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A5FFC-AD55-49D4-AA1C-2632202E7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7C630-FBFA-44DA-A06F-B32E67A64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9E3DA-ADA9-43BC-920E-EFB523302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18CE9-E0F8-43CB-A9B3-45BCAE257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57E9C-E6B0-44B6-A951-7C44FDC81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63717-2C7E-4137-9229-7D7C7DBCC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12E5B1-309C-4869-B238-934DF8A1B2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9E6053-6578-42D8-8BFE-F8CC50512C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07A40E-E539-4C62-B866-E67E77A0FB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4C8D1B-A3EF-470E-AA8A-0CED9AD567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C2D13B-C4AC-4D72-A77B-5735098890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167D23-603E-4745-B86B-EBC0C35E3C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99AEDF-E7FB-47AB-9F80-C20968FCEB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32298-58CB-4750-8432-AAFEE6B7C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0D30FC-3756-4A89-B162-2F986A57A8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4A15C5-94DB-4C2F-A8F4-755866CAF0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AC453E-576A-4D64-A280-6ED41BD698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A51846-6E9A-448E-974F-71FA824F6A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94CD96-C6C2-4FAA-BD48-D56E156DE4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CA63F7-CF76-45FA-952C-7971E24C03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E3606C-8EFA-426F-80B3-1598F44ACB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F752EDC-23E9-4B79-8539-7CB4489B681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9909EF1-4438-47CC-B455-98C0991B981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2B53C89-1994-49B3-8555-710736C5AD5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3A394-A6D8-4DDF-B780-506CA3A27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0EF800C-4C0E-4B3A-BAE5-6743BDE2B49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83D2ED4-A30A-4BEF-A4B4-11B0430D725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89371F2-E1B6-4849-939F-FDE0D7CD94E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5BB1AC4-8FDB-4610-9A64-0F6BC657BD3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FF58A3F-8286-4B07-8FFA-8A98C8EBDC2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9E87B0A-395C-403A-B80C-737CD7B9E39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C0DF862-1ACD-4589-8C5B-B60FB2299AA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299C79C-53D8-4A56-BC56-97D5933D666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10CB4FD9-68E8-4B03-A1A0-FC0BBCE2874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4C8BB3-692F-4E33-B951-FD494094B1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6CA82-C5D6-4D1E-8B94-13A0C1063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3A80FC-891E-4866-B82A-4172236ACC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FF5D42-1283-4261-B91A-9E050ACFD7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08F3C6-6510-44D7-A65E-735D1ECA73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B7711F-AE75-4C10-822F-CDC4794716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BEF487-1D49-4D21-9E05-10201DD629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BBCC14-1CFD-4221-A85D-93AA4C9D58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F03870-A626-4E31-974A-CF49EEAD96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3A7BE2-59CF-4E09-987A-F378487086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52389A-FA60-4B24-8454-666791A781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9330D7-D80A-47F3-80D7-9236449F02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BF297-9CD7-4EFF-AE72-1BCD404CF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AB6645-6869-4CBA-AE0A-9D9082761F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DA911D-111F-4E80-8DBC-2C70D04DDE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A7D0BA-3C3E-48DB-A3D6-E3BA4C4CB1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BE15B1-6915-44BA-A08A-7CDF455AE5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DC7999-C02B-4736-94C7-71FA5F97A1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32361C-6548-4B4B-B99A-C5D86E617A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87D448-1497-4A42-95AC-0C97568253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001BA4-0F88-4641-8064-84173633A7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C82C5F-1FFA-4327-B690-48B945AAE0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442F22-5425-41F9-BB42-4A91BA4059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6300C-377E-4671-931E-4FA4691CF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D20698-934C-44A2-BF58-7650091DB0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653F8B-E3C3-4BF4-B055-EC990DEB32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A3F839-D6C7-4A42-98D6-4584B8B624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A4A32F-472C-40B5-A186-DBFC14CD54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509D0D-853D-4214-B942-ADFB6276DC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6593DF-476D-41F6-8429-DE2717853C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CC9EB6-4168-46CE-AEAA-AA0ABABCA4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3219AA-5AEB-4673-A788-59699D349F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52BC50-1A44-4B60-A47B-14F9BC1F85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352774-89FB-46AF-A15F-CACD5B2A0A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8AE96-DA65-45D0-A57F-2D324F2D1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AA8C94-C054-4284-A8D3-3B72A62F14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316B07-025D-4036-8FFE-592681BE50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253B4B-A248-47AD-A931-B45AE8D9ED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6052DF-D172-473E-9905-75AD9A6F85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7E2E90-16DE-4EA5-88BA-EB63461416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0AA4CE-66D5-4D07-9FEE-25B680E4B4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7DB180-C6B9-4D21-98F0-4AEEE1A9A2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F1E45B-792F-4DE7-869A-684622BDA2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0EDC29-8E3C-4550-9515-E4E701AC07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BF2158-3659-4D39-9F75-C4187A5B54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FDC4D-1A72-47B4-848B-9A5A72FCF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CFC5F9-81A0-4E50-BAD0-D7C20580F4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BD21C8-AFFF-4D3D-8FA4-91C6EFD1A6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41AFC1-20F6-4975-9F38-853889CC88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331259-1115-4768-B0B8-0CC5610C0E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CAEB43-0E84-4AE3-9F33-F64C6C7BC2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20FE36-90AE-417C-A06E-AE14D225C0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FA3D41-D170-4546-896F-F7DCFCC1EE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5EF858D-D7E2-4B85-8BB8-2FA86DCE470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42A4A73-B764-47EF-988D-4447CF0E9BB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C652F7E-11B1-4644-AFE0-0A6325C55B57}"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FB59C-B152-4E82-B7A2-1A9F007337C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20FE-88D5-4686-90A5-96A0499B27C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E782C-D983-4F91-95E4-0D273BE91E4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B394B-5F2B-4EE0-90E5-2C6F46FEB0E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D03A3-D352-4C7B-AFE2-EB7D78B181F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F0EDB-CA5C-40C8-A5C6-80CBB12C21E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5"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7D04D-AEE9-4A7C-B329-037A7C7A91D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BDA82-FBFF-4B27-953C-38FA6B511E8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2CD82-6097-427C-9573-6BF848A7383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D49D7-26E1-4353-AA0D-5CC732BBAE2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F0B83-1446-40C8-84CE-0871C8F20C6B}"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3F980-32CF-4F9A-ABDE-EE7E8663A56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THROUGH THE LOOKING GLASS</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200000"/>
              </a:lnSpc>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ULTURAL CRITICISM</a:t>
            </a:r>
            <a:endParaRPr b="0" lang="en-US" sz="1600" spc="-1" strike="noStrike">
              <a:solidFill>
                <a:srgbClr val="000000"/>
              </a:solidFill>
              <a:latin typeface="Georgia"/>
            </a:endParaRPr>
          </a:p>
          <a:p>
            <a:pPr algn="ctr">
              <a:lnSpc>
                <a:spcPct val="200000"/>
              </a:lnSpc>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NARRATIVE CRITICISM</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ritical Method</a:t>
            </a:r>
            <a:endParaRPr b="0" lang="en-US" sz="4200" spc="-1" strike="noStrike">
              <a:solidFill>
                <a:srgbClr val="7b9899"/>
              </a:solidFill>
              <a:latin typeface="Georgia"/>
            </a:endParaRPr>
          </a:p>
        </p:txBody>
      </p:sp>
      <p:pic>
        <p:nvPicPr>
          <p:cNvPr id="615" name="Picture 4" descr="C:\Users\figlecuy\AppData\Local\Microsoft\Windows\Temporary Internet Files\Content.IE5\54J5ZAGH\MP900402892[1].jpg"/>
          <p:cNvPicPr/>
          <p:nvPr/>
        </p:nvPicPr>
        <p:blipFill>
          <a:blip r:embed="rId1"/>
          <a:stretch/>
        </p:blipFill>
        <p:spPr>
          <a:xfrm>
            <a:off x="6477120" y="476280"/>
            <a:ext cx="2361960" cy="1771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ultural Perspectiv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44" name="Picture 4" descr="C:\Users\figlecuy\AppData\Local\Microsoft\Windows\Temporary Internet Files\Content.IE5\R78VLZXP\MC900388848[1].wmf"/>
          <p:cNvPicPr/>
          <p:nvPr/>
        </p:nvPicPr>
        <p:blipFill>
          <a:blip r:embed="rId1"/>
          <a:stretch/>
        </p:blipFill>
        <p:spPr>
          <a:xfrm>
            <a:off x="228600" y="3238560"/>
            <a:ext cx="1892160" cy="3352680"/>
          </a:xfrm>
          <a:prstGeom prst="rect">
            <a:avLst/>
          </a:prstGeom>
          <a:ln w="0">
            <a:noFill/>
          </a:ln>
        </p:spPr>
      </p:pic>
      <p:sp>
        <p:nvSpPr>
          <p:cNvPr id="645" name="Flowchart: Merge 4"/>
          <p:cNvSpPr/>
          <p:nvPr/>
        </p:nvSpPr>
        <p:spPr>
          <a:xfrm rot="5695200">
            <a:off x="1341720" y="2491560"/>
            <a:ext cx="3875400" cy="2886120"/>
          </a:xfrm>
          <a:prstGeom prst="flowChartMerge">
            <a:avLst/>
          </a:prstGeom>
          <a:blipFill rotWithShape="0">
            <a:blip r:embed="rId2"/>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6" name="Flowchart: Merge 14"/>
          <p:cNvSpPr/>
          <p:nvPr/>
        </p:nvSpPr>
        <p:spPr>
          <a:xfrm rot="5670600">
            <a:off x="2523600" y="3765600"/>
            <a:ext cx="3875040" cy="541080"/>
          </a:xfrm>
          <a:prstGeom prst="flowChartMerge">
            <a:avLst/>
          </a:prstGeom>
          <a:blipFill rotWithShape="0">
            <a:blip r:embed="rId3"/>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7" name="TextBox 2"/>
          <p:cNvSpPr/>
          <p:nvPr/>
        </p:nvSpPr>
        <p:spPr>
          <a:xfrm>
            <a:off x="4952880" y="2781360"/>
            <a:ext cx="387828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ocus on race, class, and gender</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Women</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lack and white</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Lower class and middle/upper</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arrative Viewpoi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50" name="Picture 4" descr="C:\Users\figlecuy\AppData\Local\Microsoft\Windows\Temporary Internet Files\Content.IE5\R78VLZXP\MC900388848[1].wmf"/>
          <p:cNvPicPr/>
          <p:nvPr/>
        </p:nvPicPr>
        <p:blipFill>
          <a:blip r:embed="rId1"/>
          <a:stretch/>
        </p:blipFill>
        <p:spPr>
          <a:xfrm>
            <a:off x="228600" y="3238560"/>
            <a:ext cx="1892160" cy="3352680"/>
          </a:xfrm>
          <a:prstGeom prst="rect">
            <a:avLst/>
          </a:prstGeom>
          <a:ln w="0">
            <a:noFill/>
          </a:ln>
        </p:spPr>
      </p:pic>
      <p:sp>
        <p:nvSpPr>
          <p:cNvPr id="651" name="Flowchart: Merge 4"/>
          <p:cNvSpPr/>
          <p:nvPr/>
        </p:nvSpPr>
        <p:spPr>
          <a:xfrm rot="5695200">
            <a:off x="1341720" y="2491560"/>
            <a:ext cx="3875400" cy="2886120"/>
          </a:xfrm>
          <a:prstGeom prst="flowChartMerge">
            <a:avLst/>
          </a:prstGeom>
          <a:blipFill rotWithShape="0">
            <a:blip r:embed="rId2"/>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2" name="Flowchart: Merge 14"/>
          <p:cNvSpPr/>
          <p:nvPr/>
        </p:nvSpPr>
        <p:spPr>
          <a:xfrm rot="5670600">
            <a:off x="2523600" y="3765600"/>
            <a:ext cx="3875040" cy="541080"/>
          </a:xfrm>
          <a:prstGeom prst="flowChartMerge">
            <a:avLst/>
          </a:prstGeom>
          <a:blipFill rotWithShape="0">
            <a:blip r:embed="rId3"/>
            <a:srcRect/>
            <a:tile tx="0" ty="0" sx="100000" sy="100000" algn="ctr"/>
          </a:blipFill>
          <a:ln w="11520">
            <a:solidFill>
              <a:srgbClr val="bcd0b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3" name="TextBox 2"/>
          <p:cNvSpPr/>
          <p:nvPr/>
        </p:nvSpPr>
        <p:spPr>
          <a:xfrm>
            <a:off x="5029200" y="2895480"/>
            <a:ext cx="3429000" cy="17398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ocus on events</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800’s Jefferson VS. Burr</a:t>
            </a:r>
            <a:endParaRPr b="0" lang="en-US" sz="1800" spc="-1" strike="noStrike">
              <a:solidFill>
                <a:srgbClr val="000000"/>
              </a:solidFill>
              <a:latin typeface="Georgia"/>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0’s Racial Segregation</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ubTitle"/>
          </p:nvPr>
        </p:nvSpPr>
        <p:spPr>
          <a:xfrm>
            <a:off x="1371600" y="2819160"/>
            <a:ext cx="6400800" cy="3276360"/>
          </a:xfrm>
          <a:prstGeom prst="rect">
            <a:avLst/>
          </a:prstGeom>
          <a:noFill/>
          <a:ln w="0">
            <a:noFill/>
          </a:ln>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QUESTIONS TO PONDER:</a:t>
            </a:r>
            <a:endParaRPr b="0" lang="en-US" sz="1800" spc="-1" strike="noStrike">
              <a:solidFill>
                <a:srgbClr val="000000"/>
              </a:solidFill>
              <a:latin typeface="Georgi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ct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WHO CAN YOU MOST RELATE WITH</a:t>
            </a:r>
            <a:endParaRPr b="0" lang="en-US" sz="1800" spc="-1" strike="noStrike">
              <a:solidFill>
                <a:srgbClr val="000000"/>
              </a:solidFill>
              <a:latin typeface="Georgia"/>
            </a:endParaRPr>
          </a:p>
          <a:p>
            <a:pPr algn="ctr">
              <a:lnSpc>
                <a:spcPct val="200000"/>
              </a:lnSpc>
              <a:spcBef>
                <a:spcPts val="45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HOUSEKEEPER</a:t>
            </a:r>
            <a:endParaRPr b="0" lang="en-US" sz="1800" spc="-1" strike="noStrike">
              <a:solidFill>
                <a:srgbClr val="000000"/>
              </a:solidFill>
              <a:latin typeface="Georgia"/>
            </a:endParaRPr>
          </a:p>
          <a:p>
            <a:pPr algn="ctr">
              <a:lnSpc>
                <a:spcPct val="200000"/>
              </a:lnSpc>
              <a:spcBef>
                <a:spcPts val="45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HOUSEWIFE</a:t>
            </a:r>
            <a:endParaRPr b="0" lang="en-US" sz="18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55"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ritical Method Conclusion</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ubTitle"/>
          </p:nvPr>
        </p:nvSpPr>
        <p:spPr>
          <a:xfrm>
            <a:off x="609480" y="2819160"/>
            <a:ext cx="7925040" cy="327636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BY OBSERVING THROUGH THE LOOKING GLASS</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ULTURAL CRITICISM</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ND</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NARRATIVE CRITICISM</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ONE MAY IDENTIFY</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 </a:t>
            </a:r>
            <a:endParaRPr b="0" lang="en-US" sz="1600" spc="-1" strike="noStrike">
              <a:solidFill>
                <a:srgbClr val="000000"/>
              </a:solidFill>
              <a:latin typeface="Georgi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46b86"/>
                </a:solidFill>
                <a:latin typeface="Georgia"/>
              </a:rPr>
              <a:t>WHAT THE RHETOR IS ASKING YOU TO ACT ON </a:t>
            </a:r>
            <a:endParaRPr b="0" lang="en-US" sz="18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5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ritical Method Conclusion</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ubTitle"/>
          </p:nvPr>
        </p:nvSpPr>
        <p:spPr>
          <a:xfrm>
            <a:off x="1371600" y="3276720"/>
            <a:ext cx="6400800" cy="1752480"/>
          </a:xfrm>
          <a:prstGeom prst="rect">
            <a:avLst/>
          </a:prstGeom>
          <a:noFill/>
          <a:ln w="0">
            <a:noFill/>
          </a:ln>
        </p:spPr>
        <p:txBody>
          <a:bodyPr anchor="t">
            <a:noAutofit/>
          </a:bodyPr>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RISTOTELIAN METHOD AS SPEECH USED</a:t>
            </a:r>
            <a:endParaRPr b="0" lang="en-US" sz="1600" spc="-1" strike="noStrike">
              <a:solidFill>
                <a:srgbClr val="000000"/>
              </a:solidFill>
              <a:latin typeface="Georgia"/>
            </a:endParaRPr>
          </a:p>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 </a:t>
            </a:r>
            <a:r>
              <a:rPr b="1" lang="en-US" sz="1600" spc="-1" strike="noStrike">
                <a:solidFill>
                  <a:srgbClr val="646b86"/>
                </a:solidFill>
                <a:latin typeface="Georgia"/>
              </a:rPr>
              <a:t>TO CONVINCE BY ALL MEANS POSSIBLE </a:t>
            </a:r>
            <a:endParaRPr b="0" lang="en-US" sz="1600" spc="-1" strike="noStrike">
              <a:solidFill>
                <a:srgbClr val="000000"/>
              </a:solidFill>
              <a:latin typeface="Georgia"/>
            </a:endParaRPr>
          </a:p>
        </p:txBody>
      </p:sp>
      <p:sp>
        <p:nvSpPr>
          <p:cNvPr id="61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raditional Cultural Criticism</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raditional Cultural Criticism</a:t>
            </a:r>
            <a:endParaRPr b="0" lang="en-US" sz="4200" spc="-1" strike="noStrike">
              <a:solidFill>
                <a:srgbClr val="7b9899"/>
              </a:solidFill>
              <a:latin typeface="Georgia"/>
            </a:endParaRPr>
          </a:p>
        </p:txBody>
      </p:sp>
      <p:pic>
        <p:nvPicPr>
          <p:cNvPr id="619" name="Diagram 1" descr=""/>
          <p:cNvPicPr/>
          <p:nvPr/>
        </p:nvPicPr>
        <p:blipFill>
          <a:blip r:embed="rId1"/>
          <a:stretch/>
        </p:blipFill>
        <p:spPr>
          <a:xfrm>
            <a:off x="1974960" y="2822400"/>
            <a:ext cx="5121000" cy="3200400"/>
          </a:xfrm>
          <a:prstGeom prst="rect">
            <a:avLst/>
          </a:prstGeom>
          <a:ln w="0">
            <a:noFill/>
          </a:ln>
        </p:spPr>
      </p:pic>
      <p:sp>
        <p:nvSpPr>
          <p:cNvPr id="620" name="PlaceHolder 2"/>
          <p:cNvSpPr>
            <a:spLocks noGrp="1"/>
          </p:cNvSpPr>
          <p:nvPr>
            <p:ph type="subTitle"/>
          </p:nvPr>
        </p:nvSpPr>
        <p:spPr>
          <a:xfrm>
            <a:off x="1371600" y="2689560"/>
            <a:ext cx="6400800" cy="24372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ubTitle"/>
          </p:nvPr>
        </p:nvSpPr>
        <p:spPr>
          <a:xfrm>
            <a:off x="762120" y="2819160"/>
            <a:ext cx="7772400" cy="297180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ETHNOCENTRIC MENTALITY</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BOURGEOIS VS. HIPPIES</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FOCUS IS ON LARGER CULTURAL ATTITUDES OF RACE, CLASS, GENDER, SEXUALITY AND THE QUESTIONS CONCERNING POWER IN SOCIAL STRUCTURE</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22"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ultural Criticism</a:t>
            </a:r>
            <a:endParaRPr b="0" lang="en-US" sz="4200" spc="-1" strike="noStrike">
              <a:solidFill>
                <a:srgbClr val="7b9899"/>
              </a:solidFill>
              <a:latin typeface="Georgia"/>
            </a:endParaRPr>
          </a:p>
        </p:txBody>
      </p:sp>
      <p:pic>
        <p:nvPicPr>
          <p:cNvPr id="623" name="Picture 2" descr="C:\Users\figlecuy\AppData\Local\Microsoft\Windows\Temporary Internet Files\Content.IE5\54J5ZAGH\MP900402892[1].jpg"/>
          <p:cNvPicPr/>
          <p:nvPr/>
        </p:nvPicPr>
        <p:blipFill>
          <a:blip r:embed="rId1"/>
          <a:stretch/>
        </p:blipFill>
        <p:spPr>
          <a:xfrm>
            <a:off x="6858000" y="438120"/>
            <a:ext cx="2082960" cy="1562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ubTitle"/>
          </p:nvPr>
        </p:nvSpPr>
        <p:spPr>
          <a:xfrm>
            <a:off x="762120" y="2819160"/>
            <a:ext cx="7772400" cy="2971800"/>
          </a:xfrm>
          <a:prstGeom prst="rect">
            <a:avLst/>
          </a:prstGeom>
          <a:noFill/>
          <a:ln w="0">
            <a:noFill/>
          </a:ln>
        </p:spPr>
        <p: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BOURGEOIS VS. HIPPIES</a:t>
            </a:r>
            <a:endParaRPr b="0" lang="en-US" sz="1600" spc="-1" strike="noStrike">
              <a:solidFill>
                <a:srgbClr val="000000"/>
              </a:solidFill>
              <a:latin typeface="Georgia"/>
            </a:endParaRPr>
          </a:p>
          <a:p>
            <a:pPr>
              <a:spcBef>
                <a:spcPts val="4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25"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ultural Criticism</a:t>
            </a:r>
            <a:endParaRPr b="0" lang="en-US" sz="4200" spc="-1" strike="noStrike">
              <a:solidFill>
                <a:srgbClr val="7b9899"/>
              </a:solidFill>
              <a:latin typeface="Georgia"/>
            </a:endParaRPr>
          </a:p>
        </p:txBody>
      </p:sp>
      <p:pic>
        <p:nvPicPr>
          <p:cNvPr id="626" name="Picture 4" descr="C:\Users\figlecuy\AppData\Local\Microsoft\Windows\Temporary Internet Files\Content.IE5\GGJH5GDE\MC900360778[1].wmf"/>
          <p:cNvPicPr/>
          <p:nvPr/>
        </p:nvPicPr>
        <p:blipFill>
          <a:blip r:embed="rId1"/>
          <a:stretch/>
        </p:blipFill>
        <p:spPr>
          <a:xfrm>
            <a:off x="6248520" y="1828800"/>
            <a:ext cx="2014560" cy="5445000"/>
          </a:xfrm>
          <a:prstGeom prst="rect">
            <a:avLst/>
          </a:prstGeom>
          <a:ln w="0">
            <a:noFill/>
          </a:ln>
        </p:spPr>
      </p:pic>
      <p:pic>
        <p:nvPicPr>
          <p:cNvPr id="627" name="Picture 5" descr="C:\Users\figlecuy\AppData\Local\Microsoft\Windows\Temporary Internet Files\Content.IE5\HRUCIJ25\MC910217101[1].wmf"/>
          <p:cNvPicPr/>
          <p:nvPr/>
        </p:nvPicPr>
        <p:blipFill>
          <a:blip r:embed="rId2"/>
          <a:stretch/>
        </p:blipFill>
        <p:spPr>
          <a:xfrm>
            <a:off x="914400" y="3429000"/>
            <a:ext cx="3376440" cy="3052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THE BIBLE</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29"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raditional Narrative Criticism</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242640" y="1546200"/>
            <a:ext cx="850572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raditional Narrative Criticism</a:t>
            </a:r>
            <a:endParaRPr b="0" lang="en-US" sz="2700" spc="-1" strike="noStrike">
              <a:solidFill>
                <a:srgbClr val="000000"/>
              </a:solidFill>
              <a:latin typeface="Georgia"/>
            </a:endParaRPr>
          </a:p>
        </p:txBody>
      </p:sp>
      <p:pic>
        <p:nvPicPr>
          <p:cNvPr id="631" name="Picture 7" descr="C:\Users\figlecuy\AppData\Local\Microsoft\Windows\Temporary Internet Files\Content.IE5\1F7Y6QTR\MP900438755[1].jpg"/>
          <p:cNvPicPr/>
          <p:nvPr/>
        </p:nvPicPr>
        <p:blipFill>
          <a:blip r:embed="rId1"/>
          <a:stretch/>
        </p:blipFill>
        <p:spPr>
          <a:xfrm>
            <a:off x="1066680" y="2438280"/>
            <a:ext cx="3117960" cy="2341800"/>
          </a:xfrm>
          <a:prstGeom prst="rect">
            <a:avLst/>
          </a:prstGeom>
          <a:ln w="0">
            <a:noFill/>
          </a:ln>
        </p:spPr>
      </p:pic>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33" name="Picture 3" descr=""/>
          <p:cNvPicPr/>
          <p:nvPr/>
        </p:nvPicPr>
        <p:blipFill>
          <a:blip r:embed="rId2"/>
          <a:stretch/>
        </p:blipFill>
        <p:spPr>
          <a:xfrm>
            <a:off x="5638680" y="1981080"/>
            <a:ext cx="2635200" cy="399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1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FOCUS IS ON STRUCTURE OF STORIES THAT INCLUDES ELEMENTS PROTAGONIST, ANTAGONIST, SETTING, EVENTS, AUDIENCE </a:t>
            </a:r>
            <a:endParaRPr b="0" lang="en-US" sz="1600" spc="-1" strike="noStrike">
              <a:solidFill>
                <a:srgbClr val="000000"/>
              </a:solidFill>
              <a:latin typeface="Georg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635"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Narrative Criticism</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Picture 5" descr="C:\Users\figlecuy\AppData\Local\Microsoft\Windows\Temporary Internet Files\Content.IE5\V1NQP90U\MC900441763[1].png"/>
          <p:cNvPicPr/>
          <p:nvPr/>
        </p:nvPicPr>
        <p:blipFill>
          <a:blip r:embed="rId1"/>
          <a:stretch/>
        </p:blipFill>
        <p:spPr>
          <a:xfrm>
            <a:off x="-12600" y="1407960"/>
            <a:ext cx="2798640" cy="2803680"/>
          </a:xfrm>
          <a:prstGeom prst="rect">
            <a:avLst/>
          </a:prstGeom>
          <a:ln w="0">
            <a:noFill/>
          </a:ln>
        </p:spPr>
      </p:pic>
      <p:sp>
        <p:nvSpPr>
          <p:cNvPr id="6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itical Method </a:t>
            </a:r>
            <a:endParaRPr b="0" lang="en-US" sz="3300" spc="-1" strike="noStrike">
              <a:solidFill>
                <a:srgbClr val="7b9899"/>
              </a:solidFill>
              <a:latin typeface="Georgia"/>
            </a:endParaRPr>
          </a:p>
        </p:txBody>
      </p:sp>
      <p:pic>
        <p:nvPicPr>
          <p:cNvPr id="638" name="Picture 4" descr="C:\Users\figlecuy\AppData\Local\Microsoft\Windows\Temporary Internet Files\Content.IE5\R78VLZXP\MC900388848[1].wmf"/>
          <p:cNvPicPr/>
          <p:nvPr/>
        </p:nvPicPr>
        <p:blipFill>
          <a:blip r:embed="rId2"/>
          <a:stretch/>
        </p:blipFill>
        <p:spPr>
          <a:xfrm>
            <a:off x="2362320" y="3276720"/>
            <a:ext cx="1892160" cy="3352680"/>
          </a:xfrm>
          <a:prstGeom prst="rect">
            <a:avLst/>
          </a:prstGeom>
          <a:ln w="0">
            <a:noFill/>
          </a:ln>
        </p:spPr>
      </p:pic>
      <p:sp>
        <p:nvSpPr>
          <p:cNvPr id="63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ultural and Narrative Criticism</a:t>
            </a:r>
            <a:endParaRPr b="0" lang="en-US" sz="2700" spc="-1" strike="noStrike">
              <a:solidFill>
                <a:srgbClr val="000000"/>
              </a:solidFill>
              <a:latin typeface="Georgia"/>
            </a:endParaRPr>
          </a:p>
        </p:txBody>
      </p:sp>
      <p:pic>
        <p:nvPicPr>
          <p:cNvPr id="640" name="Picture 1" descr=""/>
          <p:cNvPicPr/>
          <p:nvPr/>
        </p:nvPicPr>
        <p:blipFill>
          <a:blip r:embed="rId3"/>
          <a:stretch/>
        </p:blipFill>
        <p:spPr>
          <a:xfrm rot="615000">
            <a:off x="6067440" y="2147760"/>
            <a:ext cx="2455920" cy="3643560"/>
          </a:xfrm>
          <a:prstGeom prst="rect">
            <a:avLst/>
          </a:prstGeom>
          <a:ln w="0">
            <a:noFill/>
          </a:ln>
        </p:spPr>
      </p:pic>
      <p:pic>
        <p:nvPicPr>
          <p:cNvPr id="641" name="Picture 2" descr=""/>
          <p:cNvPicPr/>
          <p:nvPr/>
        </p:nvPicPr>
        <p:blipFill>
          <a:blip r:embed="rId4"/>
          <a:srcRect l="10427" t="6573" r="54358" b="55213"/>
          <a:stretch/>
        </p:blipFill>
        <p:spPr>
          <a:xfrm rot="21005400">
            <a:off x="4254480" y="2209320"/>
            <a:ext cx="2489400" cy="358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21:35:07Z</dcterms:created>
  <dc:creator>Gloria</dc:creator>
  <dc:description/>
  <dc:language>en-US</dc:language>
  <cp:lastModifiedBy>Stoner, Mark R</cp:lastModifiedBy>
  <cp:lastPrinted>2014-03-27T00:42:14Z</cp:lastPrinted>
  <dcterms:modified xsi:type="dcterms:W3CDTF">2014-04-01T23:44:46Z</dcterms:modified>
  <cp:revision>31</cp:revision>
  <dc:subject/>
  <dc:title>Critical Method</dc:title>
</cp:coreProperties>
</file>