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11A5-1B06-4A08-8052-129454891E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2D2E-F127-4EA5-9D55-D8EAAAA4F06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8FC3-8A9B-491E-8CB9-900C057F556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B0AA-36E9-41F6-B442-6ABE486AB4A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0EA6-2B58-4871-80B8-00D5CD8A0EE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91E0-4563-4F5B-9332-AF337313E2D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1E01-BE8B-487F-8863-1B464529995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0A99-D37F-41EB-A983-9943BEF8D01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1C2A-469C-4810-98EE-B3712A67094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823F-0402-4681-B978-65D27DE5AF3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C57D-61FD-4DF6-977B-BDD6B69BE23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ies of Moses, the 10 Commandments </a:t>
            </a: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87BB-1F71-47F5-AE8B-868EBD5CEB5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C8B7-B482-4794-8CBD-0716F27265B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2FCB-BBFC-4390-BC40-D2D8E380026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CE73D-A579-444F-BCB5-A3FF25FDD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06EA-310C-4988-A969-EAC24DFA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A15249-4BB6-48C8-8D6A-E718955EB3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F4C646-C0E4-4567-A929-92CBC64073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8FDCD37-F3CE-4EE3-95A8-C666D30649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6EA3EA-7C1A-40A3-93A5-F22A663096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1EE14B-71EC-4FF8-B6A2-135042961C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147F5F-A7A5-4D6A-A71E-EB25303392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2B13669-C7CC-4788-9E87-3289287C56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8055BFC-A410-4D0B-B009-4EDC4560A07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CCF50A3-2942-450F-9DFC-53818D83FFE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A0E0BFE-FFA5-41A3-BEBE-2A8B81BC0D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62E3-8585-4955-A979-4E817221C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DD22A8-F971-43E3-9548-D12057FD81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D9E3D54-5BEE-40F8-A959-0F06B95F2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5321A2D-1FDD-4AAA-A878-D2DE7B1550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63A16AF-73ED-468A-AC34-F769DEA64A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5B4992A-E16B-4990-8966-46F1EA8206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A1A570-507B-400F-9306-A47A5EF5D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E4A80A-8891-4B84-B24C-C553D3048A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D54968-AEBB-437F-B51D-A92390FF9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0E09B5-0CF2-470B-913A-508501E86A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4807807-53FC-4D40-9EE2-6020B7E25D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DD99F-9973-4B21-84DF-ED80C3ABA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643BD69-CD40-4F1B-913B-20AC5FEF45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1D1434-D5C8-470E-8182-BF31C78F7A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17DFBB-7617-4428-9E91-C051739156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79F029-1B2C-4FFB-9ECA-944FC3E49C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05934B-1B14-4E4F-85A4-818E65AADD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3D3B2C-7CE4-4B55-BB85-E177E39EAA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5F150E-C30F-427A-B147-B3018E25B4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53DA32-5B7E-49BA-A4F2-4963416577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CD0EC4-32F3-4BE8-8FAF-B094E1D0EB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6AB4EF-25A3-4296-B249-CCD928377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A6829-3775-4708-AE5C-2E281DE1D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8E808E-507B-4B3B-95E3-E7FC0CBDEF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07734F-D4E3-4497-9AD7-7315F08142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A9D9F7-475B-4195-A2CF-3AF3D77DD8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F55C011-0A42-49BB-8581-FD254B79AA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ACB50CD-2C7F-4B10-ACA9-590C4617FF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E01A03-C135-4128-8EA4-10718BA3CE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1BDC55E-2CB4-4444-9AA7-424F7FA3F1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66C789A-3652-44A4-80F9-B8394789F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87BEA8-B836-4AC6-915F-FBDB29C566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5887F0-B85B-47FA-B0C9-05AB7310B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FD6B4-6F55-40C5-93CA-A5D570900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145B99-584E-48F3-A647-255AE871A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57B32D9-6878-4BF4-AF50-6910D5760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4FCE10D-98C1-4982-A085-49CDF515F7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1A5E974-2107-4AE3-9AC6-7A438BF1E3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86C031-F2CD-40BD-AD77-27EEEF389F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B4EBE-4FFB-4867-A5D6-E3E0EECE8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7399B-65C3-44BA-97F6-15D6E93B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6A3B0-BE07-4EC2-BE05-CD9E1B74D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D8769-D8C2-4871-9BC5-2E3C82D73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C58F0-6EC4-48F1-821E-AFB3FF95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79BF-2EF7-4233-A570-58F6D45D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99673-46F9-47BB-93D4-55ADC46E4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9F74A-7361-4792-B7FB-FFD737373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E421A-AE23-411F-8E5E-2844D162A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EEEB8-5999-4F1B-90B9-AE2542C55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93836-4C49-4DA3-B034-446F97412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77F94-4196-4F0C-AFA1-18FE624E3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1FE99-1C86-4E9B-9961-4522FBFFB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7341E-E49F-4100-BB09-6D2CCA3AD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4D088-FA04-45DA-955A-28DBCADA23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DE6F6-6466-4A35-AA8F-EE853CF29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B057-AC6F-4AE4-8026-5500FFE5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F3525-A628-4B99-98BC-B40B102B5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349E9-09F0-423C-AD6E-329E63618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329CA-EAA2-420C-ADC8-ECD2798D4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AF558-4D49-465A-B1E3-F025CB173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C4FAB-BCA7-4381-AC5A-D88EC9E4E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50532-BA13-426E-9772-5DA60416CB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97AD9-30D2-470C-A53E-1018D50E1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89F33DE-5D24-4E7B-B3AC-66879F76A37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75EC26A-C596-496A-8CA6-242E215B2C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00EC103-673A-4347-8964-751DCA2302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9ED6-B83D-48B7-B50D-F7870215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502229-97AD-48F8-9DC9-3FB2A2C1A7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09B58A-D1C0-44FB-88B2-D5D1DB986C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DF44047-BAF9-4015-9AE5-80D877DA8A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7ED8D3-C770-4728-9FA7-79D10A8A16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6A997A-3910-4A15-8F52-8DA7D75512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D254AB-A9D8-4694-9B4E-63112668B0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05A906A-1396-4A7F-8CF9-3EF463038D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8D89A5D-F454-483E-B27B-E61F08A54A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345FAE8-96FC-4106-AB22-75092AE2E8B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B7AE4-68A5-46A4-BDE6-55C0E1763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0DCF-E64B-44E8-AE92-F0A371D85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6BB4E-2D07-4825-A2A1-F4631CA11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F60FF-46E4-4418-8E8B-64F7003E3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15CD8-0043-4DC4-AB8D-E33C18D45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85932-785F-47DC-B241-F3E677F6C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1A0C1-CCD5-4887-8EB3-49400F9EA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3A163-D27B-4E94-BB8D-67E0DD5FF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998F8-2149-468B-AC4C-5029D1411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BC2CA-7747-4CC7-88C0-13FA770B9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6B5F0-4AFB-4B7C-9175-640C8DD8C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5503B-2963-4BFB-AE8A-57470ED4A3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16F8-5E5F-4BB7-B11E-22534BAFA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4D69B0-737E-4ABD-BEBD-8AEE335F42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689FFD-30B3-4E65-BC3A-A2C23F1DE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FBEFB-200B-4DD0-9345-89268AB8A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32D30-E55A-4DF7-BE7F-B6915C90DE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D8B72-9356-4CBC-A0D5-FC9AA2844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32C88-415C-46FB-863E-1FB028610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54496-091B-4F95-B936-1A7E1D6FD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8A536-4471-44A7-90BB-C7BA54DBB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D8E6E-6874-4A59-A243-456A81018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753D3-71F1-4A98-B065-725E9C1BE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D434-5B13-484A-90FB-6B8A51D0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13019-E41B-4820-9F33-F090ADE7F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D3065-4831-4372-9814-76CE93099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4EC11-E130-4908-9DC9-B4677BB5D0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64DD86-EE2C-4382-923B-DDD506875E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7CA40-A302-4E61-9533-A052697E8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86744-00AD-4CFE-B1B6-82F2621C7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8ADCE-4709-4077-9DA0-2A904C6A1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8D962-9EB3-429C-9653-5AF4D59C10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C43F9-95B8-4F4C-94ED-0845C0FDDE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35B60-F9AD-4259-AD99-6E62BF3A5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FE08-D160-4073-A612-4882322C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E1335-935D-4DF7-9EB5-A64635683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12C0E-4FCF-4E30-9CD5-30CBCB934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E01F5-12AA-428C-AF37-C1ACF0E9F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26872E-3803-486E-93F2-5B714956A1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D1EF10-57AD-4141-A351-7BFADDA48D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36BAD9-BD87-48AF-82DA-9570EFF047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42870C-94BC-4F47-B3CE-9A83E2991A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7FECC-DF67-4B2B-BF44-40FC68C78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27271-A211-4E57-939E-9B77C14EF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EEE7C-E69D-45DE-A68C-3C3FE4F26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4ABE-0BBA-4A43-9937-1B555ADD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1A7EB-69D2-4B9B-A02B-A6DEFD8B6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A96EA-47F8-4C79-8E4F-9BB299A91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A2C84-106D-4F3F-AD2B-809688AD0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0B4B6-0F92-4C26-B106-7628FA4F8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94B6E-A7AC-4FA4-91BF-66D4F714B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C73CEC-7BF3-4C8D-8344-27AB7613BD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F06372-D2BF-4024-9BE1-DCEA035E52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31FCA63-504B-41C3-8317-FC6408BC9F8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5A9D54-0712-4577-9521-370601C9BB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2497C3-56E7-4AA8-A3C9-6D32943DCA5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B7E2-576B-47E0-BCAB-E9ECCD1E109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D6D1-B1A3-4698-A078-A70CB354061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B6CB-D4FD-49B2-8155-2BAC156BE74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E574-5382-412D-8214-59529E0482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1B18-824B-4F79-85ED-D5DF9EEDAD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7DFC-FEBC-4503-A612-026ADC5077C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879F-5887-4216-87EC-EFFD1173E22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7DFA-CC6A-41AB-839A-5052E9F21E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5D68-9AA4-425F-AD6C-43C95E2C3DE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6B12-763D-4EC1-8461-24BB6339F0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AAAA-8BE5-4AA8-A8D3-A886E808AB0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1667-14E8-4E3F-892B-8BACBD41D8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5"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4"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5"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6"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7"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0"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1"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2"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3"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19" name="Diagram 1" descr=""/>
          <p:cNvPicPr/>
          <p:nvPr/>
        </p:nvPicPr>
        <p:blipFill>
          <a:blip r:embed="rId1"/>
          <a:stretch/>
        </p:blipFill>
        <p:spPr>
          <a:xfrm>
            <a:off x="1974960" y="2822400"/>
            <a:ext cx="5121000" cy="3200400"/>
          </a:xfrm>
          <a:prstGeom prst="rect">
            <a:avLst/>
          </a:prstGeom>
          <a:ln w="0">
            <a:noFill/>
          </a:ln>
        </p:spPr>
      </p:pic>
      <p:sp>
        <p:nvSpPr>
          <p:cNvPr id="620"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HNOCENTRIC MENTALITY</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3"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6"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7"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1"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3"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C:\Users\figlecuy\AppData\Local\Microsoft\Windows\Temporary Internet Files\Content.IE5\V1NQP90U\MC900441763[1].png"/>
          <p:cNvPicPr/>
          <p:nvPr/>
        </p:nvPicPr>
        <p:blipFill>
          <a:blip r:embed="rId1"/>
          <a:stretch/>
        </p:blipFill>
        <p:spPr>
          <a:xfrm>
            <a:off x="-12600" y="1407960"/>
            <a:ext cx="2798640" cy="2803680"/>
          </a:xfrm>
          <a:prstGeom prst="rect">
            <a:avLst/>
          </a:prstGeom>
          <a:ln w="0">
            <a:noFill/>
          </a:ln>
        </p:spPr>
      </p:pic>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8"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0" name="Picture 1" descr=""/>
          <p:cNvPicPr/>
          <p:nvPr/>
        </p:nvPicPr>
        <p:blipFill>
          <a:blip r:embed="rId3"/>
          <a:stretch/>
        </p:blipFill>
        <p:spPr>
          <a:xfrm rot="615000">
            <a:off x="6067440" y="2147760"/>
            <a:ext cx="2455920" cy="3643560"/>
          </a:xfrm>
          <a:prstGeom prst="rect">
            <a:avLst/>
          </a:prstGeom>
          <a:ln w="0">
            <a:noFill/>
          </a:ln>
        </p:spPr>
      </p:pic>
      <p:pic>
        <p:nvPicPr>
          <p:cNvPr id="641"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Stoner, Mark R</cp:lastModifiedBy>
  <cp:lastPrinted>2014-03-27T00:42:14Z</cp:lastPrinted>
  <dcterms:modified xsi:type="dcterms:W3CDTF">2014-04-01T23:44:46Z</dcterms:modified>
  <cp:revision>31</cp:revision>
  <dc:subject/>
  <dc:title>Critical Method</dc:title>
</cp:coreProperties>
</file>