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F252-4188-425A-AB9E-57E6B2DC68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57B0-F5D1-4CCF-B7A9-C95C1BA22ED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C7DE-B927-495F-87E4-8F5670A6531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8CB0-CBEF-46A8-925D-0CC629A4C06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5A8F-52FC-4166-9BCD-BA4633BE00F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7F4F-8F52-40B3-BB4E-C3983A790E1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2406-112F-4A6B-B6C2-6CBC1B51C5C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CE96-B327-4B6B-B25B-00391CC99A8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9054-7099-4DE6-A969-CC025C3A1B3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2D0C-2860-49FA-BBA5-349C529C420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5212-82C2-4EB2-8370-F421AA21EC5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ies of Moses, the 10 Commandments </a:t>
            </a: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941A-BFBB-4CCB-908B-7CDA29CFDE6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2ECA-BBF7-46D0-AF82-4B7B5A13779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C9B4-6EFF-42C0-8CD9-EDE0588D970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102CB-4E05-434A-9FD2-A71B50F92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0DB0B-08BC-4321-AE09-1C826FBB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8B5A4B7-387F-4A86-A76B-5F4251C03C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5948FB6-E24B-4C08-807F-8F3CBFF04A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F7A20F5-EFAF-4F5C-AC0D-D598B18A26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EFFB5E-B72A-48E0-B908-1092369B8D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F4C45E-67FF-47B9-B1A0-82CF67C221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AC6EEC6-94E9-46AE-84A9-4C6EC59388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64E9784-87A0-41A2-9AC4-9A52900575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A2C050F-C59D-44C1-A03F-6B09954116C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D6205C6-23E0-4A26-850A-E26164EE922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DF7B293-7A63-4EAB-BFB0-019F514C2C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154D-2904-49EA-AB39-1C1F40E54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D9379E5-F2C9-42F2-A228-90B2288D00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32F435-746F-46DB-A7E0-F24CB084F2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6030762-9C95-4C8E-B3D0-BC0B8E88AF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308D186-A951-4731-82F9-C1676E2245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DBE2820-B2D6-415D-8049-478D1CCDA8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DD17139-E275-4197-83C3-A6229D621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29C5B4-717B-453E-AAD8-310B5727BD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231B322-2CAA-4162-B09C-9C64821B3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ACA6EE5-9E93-48AC-A5D8-DC153CCFB7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D38B42D-9B25-41CA-97B9-4FD290609B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70678-6EEB-4987-9C8A-14057BAC2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05E7D86-69FB-40EA-9F84-EF1265B40C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3208A0-A859-477E-8C48-6AA27640F3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960B59-6A27-4FE0-8F10-3A78BC502C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216098-89C7-438A-A6D3-B984C93BF9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30CFCD-287A-4261-A287-6534C33093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72C1A5-5B74-423E-99BE-43C40A8754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9EF1B7-0641-4A79-900D-102E9B8343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2EA56A-9B75-4B19-945A-C68216103D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51DF58-7E17-486F-AD88-B2A5E9EAB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D4D612-38E6-4789-91C7-A8C3E5B64F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B008D-FDA5-4759-819C-084EF8D87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2DADEB-179D-4AD9-80FD-0D8E0EEEA0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723E45-CC99-4AFE-A689-5268D3698D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9FE5CF-F013-4EC4-AA03-6739C52B86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15993B3-B44C-4B0B-89D4-AB87E22DD3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79B44E-17EB-458F-91A6-9126F17190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71099E3-6886-4102-9B1C-2D6F359069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EC181C-FB72-42ED-A6E8-3D11695D39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AECE15E-F037-4608-B74F-B366FA601E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CA0889E-129E-48C7-876D-E913B8963A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7FABAA5-08FE-46AB-93D4-030294973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C401-D63E-4EB0-851F-559DD1A85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8C4115-A8F1-4D0F-B3A3-337EC00EE7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9D75E0-A7F2-40DA-978F-732C2A540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123693-024F-4BC5-9551-2B20ED7914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D38D310-7D7C-4CA2-A9AC-45A9609F54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674CF95-4860-452A-AEB1-1ECD507BBA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3864-1698-48A5-AC00-86643FD19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13BD0-BAFA-4B0D-9916-3B8B14831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2E5E6-C126-46CA-8FFC-D4762295C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7B6A2-413D-482A-9A6A-D641031DF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4D393-3917-4701-A1F1-6F6A7BB5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B9D0-793E-47F7-A7B6-17DDE50F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135A1-F2E8-472F-84B3-2E032E244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102C2-39E9-4AFF-8146-067739F06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6E9E2-5AA1-43B2-AB33-1595B413B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3160D-81D8-405B-BD43-73CA00B92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20C8A-6FD9-478A-A846-B68B98DCC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4D8436-F126-4413-819A-622A57CE7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588D2-EAF1-4802-AD86-43A45C05D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44504-FAC1-4AB3-9F03-C1CFD2DE9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5B11E0-3F6B-49C2-B6D5-AEE3F6B17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9687B-05C0-41E8-BF72-6714B6034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FFD7-CA93-4560-AF62-7B81DD23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6D060-16ED-4183-92CE-142804F90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2F362-9A78-433F-8BCB-E681C3AE0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93626-AC99-485D-8864-AFCE3158F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10A2B-C12A-4F44-9686-CD7AA6ACE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6412A-0D0D-4A13-B503-688B8F032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5AD40-C9BF-483D-A3AF-A3AF4537F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807B6-B7E7-4FA6-96F9-588CF46FA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56D9E70-EB02-4F43-938D-6B639240AE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90252CE-087F-405F-9401-8445CD16C6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FA0609-C4A9-4F54-9D56-1540517F22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53A5F-DD9F-49D8-AF58-FD5945D5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CEDD0A-C173-494E-8E75-174DB40BB0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1D5EF20-D0C1-4859-A2B5-9CAF104C77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8C21855-3892-4F98-B342-6A7D5687D8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02EED5-0B1D-4F0A-864A-CA98BD2E1A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80C018-7BCA-49E1-954C-0E7A22F0DD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5FF308-581A-4C57-9CDE-EBF9305417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160170-9AE5-4826-AEE1-30CBF7CEC9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1599FEC-B4A5-403B-98A9-56A63487E06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E888B1B-1DFA-4877-BF8B-87CE6D9BDD7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127E70-BB36-4F51-8DBE-38804E47F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123F-9C8F-4AE7-AFE2-CF9C95CD8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62DED-D3E8-4B32-84DF-78ACA984C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9169BA-C254-4C6B-9951-DB0FD348E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BC93C-B769-4906-869B-2DC3D11CE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F82ED-4612-4F35-AA51-2205B0283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CF44F-4A5C-4A11-9903-91808F8D4C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C2BB9-DF7D-4746-8013-E900651E9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6FC8D-3821-48CF-86A2-DAA3A0782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B61AE-68AA-496D-B4BD-D7CEB5C9C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7F4A0-0975-452B-B562-4FE7C5807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ECD1B9-909C-4535-8A7D-AD890C100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AFFDE-D447-464D-A5EF-AB5B3747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4CDE2-2F7C-46B3-88AF-67C1CECCB2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686BF1-89FE-4022-B7AD-E744F5D0B4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9AA0E-DC89-4342-BECC-26923FAEBB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26E02F-D482-4601-9B56-3396B6891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027E1A-68D3-41F4-A4F8-32D43BE7F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CA537-AE0E-44EC-ABE0-31C290649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58320-1216-4393-A6A4-3CD72A9DB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C4BFF7-0D6E-4AFE-AAA9-8F0777BB5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CBC58-760D-4B8D-AC43-13A5F58AE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E2DF2-47DB-4253-A2A8-B08FD8086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42C6-FD1B-439C-8D55-B59E24486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B4688-DD67-4141-B415-8EC82ECB50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AFF2C-8D4F-4805-8212-9E64B2F1C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7F9EB5-E695-4FE8-95A5-860B709F12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D6E738-3266-4EF6-89A9-D4BE47F75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50064-8C87-4230-ABE7-6EBED756A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091C4-1C9A-4090-8336-04F6D40671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9F4260-1159-4F14-87FB-EAF54D285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E7860-AA8D-4B0D-81F3-8D06DD83D2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E45AF3-4613-4BFA-AFC8-63864175A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D6668-EF23-426E-A25A-106534F40C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B286-3375-4724-91DD-52E7BDE7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31060-F87A-4550-AF01-3B22AE78A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69F60-614C-428F-B284-83D2DC209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49C4C-1723-49D0-880C-F5942DB8E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78B4B-EA8B-40D8-813B-47F7F7C43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D67570-CE52-4E52-9938-5027D2608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59DDC9-5D00-4206-B201-91819DBC0C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27258-CB1C-4769-A119-62AF9BEAC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5280F-A81F-4D65-BEAC-D45C2D72C7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D174D-7160-410E-A86E-024ED0BF0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269F79-F2CC-482D-8F44-81AFAD6E1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A7DB-8B6D-4BFB-90B2-D9D51BE9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90FC9B-10BC-4CDD-BA58-663F314C03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72A9B-DA03-43E4-922E-048019998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C8510-3B93-4B33-9012-EFED3C961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3B9CA-6A5C-4A56-AC80-62D1CE482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422DA-39CE-41C4-995D-6232F90FCF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EE87E7-8B92-4FD5-987B-6A6B76B9F8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EF0179-2D3C-489A-BFF6-1398E43E8E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F003E67-BEFE-4BD2-85F1-6F24E130000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C21C350-01A7-411B-937B-2944D6D1BC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BA64AC4-9357-45E4-A09A-8E4D8B01DE7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1A6C-7043-4767-9CB8-9B747F70E6A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1E0F-FE6B-497B-AA91-D7BFEFC11A5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6A47-8F5A-4C1D-822F-F2FBC72FE0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7B6C-0C24-4F5E-AC93-9F98CC12039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67CD-C3B7-480B-A06F-7AE7E585350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491D-615C-401A-9146-03BB80B172C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8EAA-2F59-45AB-9E13-08ABFF7DE73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3703-4FB3-44A9-853D-3C5D0420749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8DE1-6608-4E46-ACF8-2182BCA0E1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DEC0-F316-40CC-8CDD-35FF6B6DFB7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73D1-9AA7-4A3A-944C-64F338327BB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4765-9105-4FC0-B96D-31DA5172942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5"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4"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5"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6"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7"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0"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1"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2"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3"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19" name="Diagram 1" descr=""/>
          <p:cNvPicPr/>
          <p:nvPr/>
        </p:nvPicPr>
        <p:blipFill>
          <a:blip r:embed="rId1"/>
          <a:stretch/>
        </p:blipFill>
        <p:spPr>
          <a:xfrm>
            <a:off x="1974960" y="2822400"/>
            <a:ext cx="5121000" cy="3200400"/>
          </a:xfrm>
          <a:prstGeom prst="rect">
            <a:avLst/>
          </a:prstGeom>
          <a:ln w="0">
            <a:noFill/>
          </a:ln>
        </p:spPr>
      </p:pic>
      <p:sp>
        <p:nvSpPr>
          <p:cNvPr id="620"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HNOCENTRIC MENTALITY</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3"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6"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7"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1"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3"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C:\Users\figlecuy\AppData\Local\Microsoft\Windows\Temporary Internet Files\Content.IE5\V1NQP90U\MC900441763[1].png"/>
          <p:cNvPicPr/>
          <p:nvPr/>
        </p:nvPicPr>
        <p:blipFill>
          <a:blip r:embed="rId1"/>
          <a:stretch/>
        </p:blipFill>
        <p:spPr>
          <a:xfrm>
            <a:off x="-12600" y="1407960"/>
            <a:ext cx="2798640" cy="2803680"/>
          </a:xfrm>
          <a:prstGeom prst="rect">
            <a:avLst/>
          </a:prstGeom>
          <a:ln w="0">
            <a:noFill/>
          </a:ln>
        </p:spPr>
      </p:pic>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8"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0" name="Picture 1" descr=""/>
          <p:cNvPicPr/>
          <p:nvPr/>
        </p:nvPicPr>
        <p:blipFill>
          <a:blip r:embed="rId3"/>
          <a:stretch/>
        </p:blipFill>
        <p:spPr>
          <a:xfrm rot="615000">
            <a:off x="6067440" y="2147760"/>
            <a:ext cx="2455920" cy="3643560"/>
          </a:xfrm>
          <a:prstGeom prst="rect">
            <a:avLst/>
          </a:prstGeom>
          <a:ln w="0">
            <a:noFill/>
          </a:ln>
        </p:spPr>
      </p:pic>
      <p:pic>
        <p:nvPicPr>
          <p:cNvPr id="641"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Stoner, Mark R</cp:lastModifiedBy>
  <cp:lastPrinted>2014-03-27T00:42:14Z</cp:lastPrinted>
  <dcterms:modified xsi:type="dcterms:W3CDTF">2014-04-01T23:44:46Z</dcterms:modified>
  <cp:revision>31</cp:revision>
  <dc:subject/>
  <dc:title>Critical Method</dc:title>
</cp:coreProperties>
</file>