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578A-A47B-4A76-AE7D-A2A5D1E82B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4840" y="696960"/>
            <a:ext cx="4648320" cy="3486240"/>
          </a:xfrm>
          <a:prstGeom prst="rect">
            <a:avLst/>
          </a:prstGeom>
          <a:ln w="0">
            <a:noFill/>
          </a:ln>
        </p:spPr>
      </p:sp>
      <p:sp>
        <p:nvSpPr>
          <p:cNvPr id="6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8EEF-E9CC-4EE3-8FB1-0E3B5D25D8D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8257-452B-495C-B9C5-DF94F2E6BBB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4840" y="696960"/>
            <a:ext cx="4648320" cy="3486240"/>
          </a:xfrm>
          <a:prstGeom prst="rect">
            <a:avLst/>
          </a:prstGeom>
          <a:ln w="0">
            <a:noFill/>
          </a:ln>
        </p:spPr>
      </p:sp>
      <p:sp>
        <p:nvSpPr>
          <p:cNvPr id="6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7C16-C41B-413C-9D68-1759EFAC050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4840" y="696960"/>
            <a:ext cx="4648320" cy="3486240"/>
          </a:xfrm>
          <a:prstGeom prst="rect">
            <a:avLst/>
          </a:prstGeom>
          <a:ln w="0">
            <a:noFill/>
          </a:ln>
        </p:spPr>
      </p:sp>
      <p:sp>
        <p:nvSpPr>
          <p:cNvPr id="6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6508-44EA-45A8-A590-2A1A94C76F9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4840" y="696960"/>
            <a:ext cx="4648320" cy="3486240"/>
          </a:xfrm>
          <a:prstGeom prst="rect">
            <a:avLst/>
          </a:prstGeom>
          <a:ln w="0">
            <a:noFill/>
          </a:ln>
        </p:spPr>
      </p:sp>
      <p:sp>
        <p:nvSpPr>
          <p:cNvPr id="6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47C7-C120-4279-A98A-72716ABAE41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4840" y="696960"/>
            <a:ext cx="4648320" cy="3486240"/>
          </a:xfrm>
          <a:prstGeom prst="rect">
            <a:avLst/>
          </a:prstGeom>
          <a:ln w="0">
            <a:noFill/>
          </a:ln>
        </p:spPr>
      </p:sp>
      <p:sp>
        <p:nvSpPr>
          <p:cNvPr id="6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A706-2891-4F76-BDF3-13D8D95563F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4840" y="696960"/>
            <a:ext cx="4648320" cy="3486240"/>
          </a:xfrm>
          <a:prstGeom prst="rect">
            <a:avLst/>
          </a:prstGeom>
          <a:ln w="0">
            <a:noFill/>
          </a:ln>
        </p:spPr>
      </p:sp>
      <p:sp>
        <p:nvSpPr>
          <p:cNvPr id="6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3481-F805-4824-B201-CAD419EA622F}"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305D-C82C-432B-B575-43DBAC68A65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26F6-D98A-46F3-B990-F1FED9C9F27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7489-0D0E-47DB-A03E-3E34F3FECFF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ies of Moses, the 10 Commandments </a:t>
            </a: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9750-A19E-4EF1-89DF-01C39C84D8E4}"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BE83-7102-4085-8237-75DCAAE5EA0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5D0D-39D0-4982-9B6F-C64D2779ED2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40A44-3D32-4381-B845-A95387166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5CBAB-D6B8-4697-BD5B-9149135E1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EC634D1-32DB-4698-8578-EE836757F5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D52A540-AF6B-4C2C-9742-E425A3BB67F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C9155B3-3126-4085-A1B9-C17F8B1275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851F874-9A4A-4FB3-BEEC-6897456D38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25697F-951D-47E4-BD9A-AEC1FD5F7E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B6B8198-01A8-4104-A636-6DB1D8FEEF1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99BD2E8-A67B-454F-A9ED-F6B8B931D63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EEB2D8C-5C44-4929-A620-72072C1F56D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31FE232-B29F-4F9B-81AB-B96DDBABAAE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DE50087-44C8-4B8A-B2BF-23643071D0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607B8-60A7-47C1-9FB9-B75C239E9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14CC349-8FEA-4F0F-A6B7-8920C8E73B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F6B9BE8-1D41-4EDF-8F40-5F252E02B3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28A59AB-5F2F-4859-959D-D9D2D73166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A426E12-7FB2-4AE5-A053-C0C7DA1A52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1A30309-0276-4DFD-A4D7-D55826D1F8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0A8714B-8ECE-4DB6-B36E-ED8EC7007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0E7CD74-D9F4-4ACB-BAA8-1BC95D4F25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CF5575A-9D45-4F5F-99CE-325CD48D23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E9E39A0-7EA4-4199-8B2F-11A5507E58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6B9DC55-BE33-4158-AE46-2C86DCF834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23E83-7B76-4FD2-B6E7-9C12C7D79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BC84545-888B-41D1-B605-9549F03123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65E68D-9DC5-4724-BFF3-2257CEF522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7A6CDC-B7AD-4577-903C-497E0E6F40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01DA2D-D485-4FEA-8426-C142FCA1C1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289EA1-4001-473A-BF53-8B1E35CAAA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2339C5-1279-466D-B4DF-0D05688545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D8B669-39C6-491E-9531-3F6916D0D6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0CDDDE-27FC-4B5D-AA0B-9E4770749A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A8B3A8-8DF1-4202-B9E9-A48A8559E3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4063BF-224C-4156-A3B3-2C750DF511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4C228-B8D6-40F3-80DE-6974745EF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0FF863-43CB-447F-B251-F91975413E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B16A59-DF90-40CB-9863-F26415A315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C06EF8-CD74-47C7-BD7E-BB82DA6F46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4BF4B24-DDE8-456B-98F7-8AF5512A50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95E5C1F-1589-4781-A19A-26E379BCEB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512D80F-B870-46BD-B597-B3C3EE2CF6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B89D4CC-74F9-4A53-98F1-B5453A23B4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B157D58-9F68-463D-8A2C-8B1398033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C24F821-0065-4FBA-A0D0-6E05790945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19CB7C9-A8C3-49C3-B995-402FEDB5C5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15890-B45E-4C01-A68A-77EE607A4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39946E3-9C8C-4633-9466-DD4D94B87D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E8E5D1E-4F53-4E14-A8AE-B75D53480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DA068F5-29C7-4100-8E84-37E07CEB0C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C4F6210-3457-4791-8FC7-80C84E4A03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5FD6A5B-105F-49C8-9C30-44E63B8F1E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FFDEC-8BDC-46F8-AEA3-6BAD479A6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5E415-9602-4CB7-9B0D-1E5BFA7AA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FAB74-324F-46EC-9B56-203BB2CEC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49C19-5F26-417C-A21D-5101BA1D6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B22C9-76E7-40B7-8CDE-20366540A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342FE-53F5-43AE-AFEA-D0D7056E4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0BDA9-CE10-41B3-AC62-2B8675331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8603-FA2F-4AA0-9B48-946F1AC2D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0177D-1D13-4E3C-B18E-AC80C1E58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E65A0-C66E-4730-95D8-72EF98717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26AB2-4FD1-40B0-B070-44C40C72E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3BA061-AAE1-4668-AA7A-58F0D98F1A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CEAF0-37CB-4B20-8F14-FDEC451CE0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36C28-25E9-4F03-9F27-157D7CD80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4B81A-51C7-449C-BC6A-6F5439804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90E81-BBBC-4C26-BFC1-5B455CBD0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997DE-6970-4045-AC9B-A64BD263E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02540-DBC5-4603-BA48-24C4CE892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EBD1B-EFAE-4B5F-A5CD-02CFBBFFD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98630-814E-4775-891C-D4EFBDD15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4293B-F0F4-493B-BDF1-C5C182B48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F935E6-41DB-4700-ADF3-9C8020B04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6E898B-FC8F-4935-B356-E9408B633C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B5ECAB-F3FD-442C-8F68-E3666A66A8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EABDFCF-C155-4D66-A4F3-C9E1E0B55B1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47E8F59-1940-4E2A-A530-7D9D84FBCB7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239E2FE-F346-4795-B73F-13AEEF2F52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C1220-BF31-4FF3-9679-249D8D58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E8BD640-F546-4354-9456-CB47D2FF08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AF8DEF3-7EA2-486B-9063-D916CA8E61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D7A32A1-6199-44FD-ACDE-1424893B16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2CB2C61-CE4A-4697-8A7C-CA9E0663B8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1A03031-5E61-4290-86ED-70FA349613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F5ABB96-0756-428C-BC91-7BE3A647DF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2A66B60-A2B2-4404-BF39-7F35425ADAC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AA7A862-CD44-4623-8153-405893B113A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1C35EEF-49FA-4477-8625-8458EAD12A6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7D2848-DEF8-40B3-953B-BD7BA9FBFF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51543-1C65-42FC-AE38-F163C394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46544F-8D7C-4E65-94E6-A0BECC2CCA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CDDAEB-2591-4B59-AC4B-246F133FA2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C26D1-E431-445A-9434-300C85603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E95D7D-D9B7-4F0D-816B-71DC74DE1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930AE-033D-4004-AF7B-8A811A5DC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5D4ED-F708-4CA7-B3B2-EBBBF56B7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9DDD7-962E-477F-A172-725A92F0D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3EBC8-279B-4772-9E5C-F4952F28C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9AD03-C0EE-4D06-A5EC-80400EDE93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C436BB-D9BE-4ABC-B9F7-B90A7A9856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1143E-37EA-4AB4-8266-3C3D9991B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FE71E-B88E-4801-BD08-8A97A158DA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A205CF-5772-4123-8775-4BB7A1B51D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353BA2-246A-4369-A739-A75C027ED4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2F80F1-597F-4A99-8F98-C930D8B15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54ACC9-F4D7-4D0D-AD25-A5587399BC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2680E4-D30D-4632-AC3B-BE4F4A4069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50FF8B-B0AD-42C4-AABC-0AB3F97E69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D978D-8FA4-425B-BEF7-A82141DB89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9EFD9-F933-4D63-AC8B-66FBED1660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CB75F3-0D4E-40CE-AF0E-689BBC6061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70D8-69EC-442C-AC62-CE8D8629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25BEF9-5BB8-47C6-B71C-47AD7D95A2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06D646-A21B-4262-A6C5-C8CA92653B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A57F26-06FD-4CAA-9A38-AB1DD68884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418AAA-F7C6-46C8-9BBA-33962E4255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D8952E-D8B5-4D20-B815-C201DA5B35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80C792-E3D0-4284-A44E-9F6A20ED08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1248CC-B507-4541-86CD-D0AE8D2FA2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6420C0-EFC1-4AE6-8F87-79EAFFB35B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7A81C9-E5AF-4F20-BD9F-6339B4FEBF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887668-904F-4D10-A2D3-DF1B7F325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FC634-E8D3-4EC8-A49F-C7D2D7B76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FDF8B-62EE-406D-8942-BD5798E8C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5EC32-1B47-40EE-A968-FEB8A042F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3EB21B-0D82-4371-B5DB-7D743415D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E32702-F741-4239-B686-5266BB80BF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3AAC50-5D2D-4E8F-A15B-36288B26EE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794E42-3BDB-43CE-98F8-62C1F020F7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1C0288-3BAE-40CC-AA69-2C3E4953E0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D45DEC-C345-4482-9DD3-E91602A76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8F9648-3DE2-4764-B15F-FA727F5C8F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5E4AE-585F-4D28-8286-00D38A29CA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C94FA-CCBD-4FAA-BB62-AB065FC7C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E18105-4209-40D8-8E40-579868409B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ABCA86-1AF2-49CA-A06C-A9B763305A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EC2B61-CD8F-4362-98D8-D9100995A7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ECDC8-B167-433F-86DB-57CAEF75BA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A451B3-CE9E-4CC2-B39A-2A8322B121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40734A-03D0-48FD-92DA-BF90DB6E23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DB3752-4E12-489D-8D42-4C1D80000A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6227F1D-6233-43AF-A807-705651C0F0B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B38DF9F-EF9A-4760-8F1E-6B356943C54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E5B878D-6D21-4D9C-8221-BECB54BA984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B945-0EDA-4F4F-8835-0DD17535F77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E20F-617E-452D-A951-3B04F7FA0F7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D6E7-9A7A-4006-A275-5938E349E6C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BF3E-D8AC-415A-8203-671FEF1196F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1AF7-B3FD-46D0-83E5-C6EDFC30512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DBE6-FF4E-469B-8D61-BC80FCA2CBA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3930-CE94-44ED-8507-952ED0970FE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D770-9246-48DF-9B67-3A0611931BD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B607-D907-4701-9BD4-FC2A634D138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A84E-3BD1-47FD-BF63-8A881016EDF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D4D6-7452-4FD8-9E55-ACD5E883BD0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F9DB-87CF-4AC9-A606-01AF6CF00C8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5"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4"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5"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6"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7"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0"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1"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2"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3"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19" name="Diagram 1" descr=""/>
          <p:cNvPicPr/>
          <p:nvPr/>
        </p:nvPicPr>
        <p:blipFill>
          <a:blip r:embed="rId1"/>
          <a:stretch/>
        </p:blipFill>
        <p:spPr>
          <a:xfrm>
            <a:off x="1974960" y="2822400"/>
            <a:ext cx="5121000" cy="3200400"/>
          </a:xfrm>
          <a:prstGeom prst="rect">
            <a:avLst/>
          </a:prstGeom>
          <a:ln w="0">
            <a:noFill/>
          </a:ln>
        </p:spPr>
      </p:pic>
      <p:sp>
        <p:nvSpPr>
          <p:cNvPr id="620"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HNOCENTRIC MENTALITY</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3"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6"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7"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1"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3"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C:\Users\figlecuy\AppData\Local\Microsoft\Windows\Temporary Internet Files\Content.IE5\V1NQP90U\MC900441763[1].png"/>
          <p:cNvPicPr/>
          <p:nvPr/>
        </p:nvPicPr>
        <p:blipFill>
          <a:blip r:embed="rId1"/>
          <a:stretch/>
        </p:blipFill>
        <p:spPr>
          <a:xfrm>
            <a:off x="-12600" y="1407960"/>
            <a:ext cx="2798640" cy="2803680"/>
          </a:xfrm>
          <a:prstGeom prst="rect">
            <a:avLst/>
          </a:prstGeom>
          <a:ln w="0">
            <a:noFill/>
          </a:ln>
        </p:spPr>
      </p:pic>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8"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0" name="Picture 1" descr=""/>
          <p:cNvPicPr/>
          <p:nvPr/>
        </p:nvPicPr>
        <p:blipFill>
          <a:blip r:embed="rId3"/>
          <a:stretch/>
        </p:blipFill>
        <p:spPr>
          <a:xfrm rot="615000">
            <a:off x="6067440" y="2147760"/>
            <a:ext cx="2455920" cy="3643560"/>
          </a:xfrm>
          <a:prstGeom prst="rect">
            <a:avLst/>
          </a:prstGeom>
          <a:ln w="0">
            <a:noFill/>
          </a:ln>
        </p:spPr>
      </p:pic>
      <p:pic>
        <p:nvPicPr>
          <p:cNvPr id="641"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Stoner, Mark R</cp:lastModifiedBy>
  <cp:lastPrinted>2014-03-27T00:42:14Z</cp:lastPrinted>
  <dcterms:modified xsi:type="dcterms:W3CDTF">2014-04-01T23:44:46Z</dcterms:modified>
  <cp:revision>31</cp:revision>
  <dc:subject/>
  <dc:title>Critical Method</dc:title>
</cp:coreProperties>
</file>